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9.jpeg" ContentType="image/jpeg"/>
  <Override PartName="/ppt/media/image10.jpeg" ContentType="image/jpeg"/>
  <Override PartName="/ppt/media/image35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09C-02DF-4E73-8353-C1C5C21A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FCCD-1157-4B95-8D41-FDD5B2F0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439-6EA8-4292-84A0-D91F64D7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726-679D-439A-A833-94AED838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A53-D867-4490-A4AF-134DCA43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C04-C03F-498D-BC40-4D721DCF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C65-8EDA-4B89-AB23-65A2E49E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2AF-A4D2-4505-8F4D-498EEA14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E13-732D-4AF9-A03C-6698C363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AECE-B948-4493-9D3D-6649C536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A9DA-AD9B-43BA-82FD-37B65C30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6B3-1E17-4C27-A01F-B89C48A7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A475-7510-4593-990A-5590A2E07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rushFlair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rebuchet MS"/>
              </a:rPr>
              <a:t>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562720" y="5410080"/>
            <a:ext cx="3352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2057400"/>
            <a:ext cx="99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99"/>
                </a:solidFill>
                <a:latin typeface="BrushFlair"/>
              </a:rPr>
              <a:t>i</a:t>
            </a:r>
            <a:r>
              <a:rPr b="0" lang="en-US" sz="4400" spc="-1" strike="noStrike">
                <a:solidFill>
                  <a:srgbClr val="000099"/>
                </a:solidFill>
                <a:latin typeface="Trebuchet MS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3962520"/>
            <a:ext cx="396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BrushFlair"/>
              </a:rPr>
              <a:t>IDEA</a:t>
            </a:r>
            <a:r>
              <a:rPr b="0" lang="en-US" sz="6000" spc="-1" strike="noStrike">
                <a:solidFill>
                  <a:srgbClr val="000099"/>
                </a:solidFill>
                <a:latin typeface="BrushFlair"/>
              </a:rPr>
              <a:t> 200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5257800"/>
            <a:ext cx="838224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3349800" cy="50292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7" name=""/>
          <p:cNvSpPr/>
          <p:nvPr/>
        </p:nvSpPr>
        <p:spPr>
          <a:xfrm>
            <a:off x="380880" y="1371600"/>
            <a:ext cx="0" cy="388620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62120" y="1143000"/>
            <a:ext cx="3490920" cy="525780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55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304920"/>
            <a:ext cx="6629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914400"/>
            <a:ext cx="7621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838080"/>
            <a:ext cx="6858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rebuchet MS"/>
              </a:rPr>
              <a:t>Review of Existing Evalua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44792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part of an initial evaluation (if appropriate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EP team and other qualified professionals, as appropriate, must review existing evaluation data on the child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3352680"/>
            <a:ext cx="533412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formation and evaluation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ided by paren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rrent assessment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classroom-based, local, or St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room-based observ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servations by teachers and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ed services provi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1979640" cy="297180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304920"/>
            <a:ext cx="6629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914400"/>
            <a:ext cx="7621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838080"/>
            <a:ext cx="6858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rebuchet MS"/>
              </a:rPr>
              <a:t>Review of Existing Evalua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44792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the basis of that review and input from the parents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group identifies what additional data (if any) are needed to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3200400"/>
            <a:ext cx="7543800" cy="26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child is a “child with a disability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ild’s educational nee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ild’s present levels of academic achievement and related developmental nee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88"/>
              </a:spcBef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ther child needs special education and relate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57150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A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38880" y="6248520"/>
            <a:ext cx="1524240" cy="0"/>
          </a:xfrm>
          <a:prstGeom prst="line">
            <a:avLst/>
          </a:prstGeom>
          <a:ln w="38160">
            <a:solidFill>
              <a:srgbClr val="66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181480" y="4191120"/>
            <a:ext cx="3759480" cy="2495520"/>
          </a:xfrm>
          <a:prstGeom prst="rect">
            <a:avLst/>
          </a:prstGeom>
          <a:ln w="9360">
            <a:solidFill>
              <a:srgbClr val="66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4800600" cy="319248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1371600" y="304920"/>
            <a:ext cx="6629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914400"/>
            <a:ext cx="7621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077320" y="838080"/>
            <a:ext cx="6858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rebuchet MS"/>
              </a:rPr>
              <a:t>Review of Existing Evalua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447920"/>
            <a:ext cx="8686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ther any additions or modifications to the special education and related services are needed to enable child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2819520"/>
            <a:ext cx="32763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meet annual goals in the IE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participate in general education curriculu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as appropri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62120" y="2666880"/>
            <a:ext cx="4597200" cy="3051360"/>
          </a:xfrm>
          <a:prstGeom prst="rect">
            <a:avLst/>
          </a:prstGeom>
          <a:ln w="9360">
            <a:solidFill>
              <a:srgbClr val="660033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8" name=""/>
          <p:cNvSpPr/>
          <p:nvPr/>
        </p:nvSpPr>
        <p:spPr>
          <a:xfrm>
            <a:off x="1905120" y="6095880"/>
            <a:ext cx="693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roup may conduct its review without a mee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457200" y="228600"/>
            <a:ext cx="8381880" cy="990720"/>
            <a:chOff x="457200" y="228600"/>
            <a:chExt cx="8381880" cy="990720"/>
          </a:xfrm>
        </p:grpSpPr>
        <p:sp>
          <p:nvSpPr>
            <p:cNvPr id="130" name=""/>
            <p:cNvSpPr/>
            <p:nvPr/>
          </p:nvSpPr>
          <p:spPr>
            <a:xfrm>
              <a:off x="1371600" y="304920"/>
              <a:ext cx="6629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914400"/>
              <a:ext cx="76212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77320" y="838080"/>
              <a:ext cx="68580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228600"/>
              <a:ext cx="8381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rebuchet MS"/>
                </a:rPr>
                <a:t>Review of Existing Evaluation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990720" y="18288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s there enough data to provide the info nee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89548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281952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286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22860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886200"/>
            <a:ext cx="37339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blic agency must administer assessments and other measures to produce the data need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505320"/>
            <a:ext cx="3353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blic agency must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ify paren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648320"/>
            <a:ext cx="43434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at determination and the reason for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parents have the right to request an assessment of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562720" y="2438280"/>
            <a:ext cx="2782800" cy="419112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905120" y="2514600"/>
            <a:ext cx="2776320" cy="403848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57200" y="228600"/>
            <a:ext cx="8381880" cy="990720"/>
            <a:chOff x="457200" y="228600"/>
            <a:chExt cx="8381880" cy="990720"/>
          </a:xfrm>
        </p:grpSpPr>
        <p:sp>
          <p:nvSpPr>
            <p:cNvPr id="145" name=""/>
            <p:cNvSpPr/>
            <p:nvPr/>
          </p:nvSpPr>
          <p:spPr>
            <a:xfrm>
              <a:off x="1371600" y="304920"/>
              <a:ext cx="6629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914400"/>
              <a:ext cx="76212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77320" y="838080"/>
              <a:ext cx="68580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" y="228600"/>
              <a:ext cx="8381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rebuchet MS"/>
                </a:rPr>
                <a:t>Determining the Child’s Eligibil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828800" y="1600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group of qualified professionals and the parent determines whether the child is a “child with a disabilit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3429000"/>
            <a:ext cx="66294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actors involved in making this determi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DEA defines “child with a disabil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’s special rule for eligibility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51"/>
              </a:spcAft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ariety of information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5257800" cy="350208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457200" y="228600"/>
            <a:ext cx="8381880" cy="990720"/>
            <a:chOff x="457200" y="228600"/>
            <a:chExt cx="8381880" cy="990720"/>
          </a:xfrm>
        </p:grpSpPr>
        <p:sp>
          <p:nvSpPr>
            <p:cNvPr id="153" name=""/>
            <p:cNvSpPr/>
            <p:nvPr/>
          </p:nvSpPr>
          <p:spPr>
            <a:xfrm>
              <a:off x="1371600" y="304920"/>
              <a:ext cx="6629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" y="914400"/>
              <a:ext cx="76212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77320" y="838080"/>
              <a:ext cx="68580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228600"/>
              <a:ext cx="8381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rebuchet MS"/>
                </a:rPr>
                <a:t>Determining the Child’s Eligibil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371600" y="14479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A’s Special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3429000"/>
            <a:ext cx="662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appropriate instruction in read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appropriate instruction in math,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English proficiency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hild does not otherwise meet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gibility criteria at §300.8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3623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child must not be determined to be a “child with a disability” if the determinant factor for deciding so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457200" y="228600"/>
            <a:ext cx="8381880" cy="990720"/>
            <a:chOff x="457200" y="228600"/>
            <a:chExt cx="8381880" cy="990720"/>
          </a:xfrm>
        </p:grpSpPr>
        <p:sp>
          <p:nvSpPr>
            <p:cNvPr id="161" name=""/>
            <p:cNvSpPr/>
            <p:nvPr/>
          </p:nvSpPr>
          <p:spPr>
            <a:xfrm>
              <a:off x="1371600" y="304920"/>
              <a:ext cx="6629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" y="914400"/>
              <a:ext cx="76212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77320" y="838080"/>
              <a:ext cx="68580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" y="228600"/>
              <a:ext cx="8381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rebuchet MS"/>
                </a:rPr>
                <a:t>Determining the Child’s Eligibil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85800" y="251460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titude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men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er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16002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ublic agency must draw upon information from a variety of sources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251460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about child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or cultural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52578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ublic agency must ensure that information obtained from all these sources is documented and carefully consid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457200" y="228600"/>
            <a:ext cx="8381880" cy="990720"/>
            <a:chOff x="457200" y="228600"/>
            <a:chExt cx="8381880" cy="990720"/>
          </a:xfrm>
        </p:grpSpPr>
        <p:sp>
          <p:nvSpPr>
            <p:cNvPr id="170" name=""/>
            <p:cNvSpPr/>
            <p:nvPr/>
          </p:nvSpPr>
          <p:spPr>
            <a:xfrm>
              <a:off x="1371600" y="304920"/>
              <a:ext cx="6629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914400"/>
              <a:ext cx="76212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77320" y="838080"/>
              <a:ext cx="68580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228600"/>
              <a:ext cx="8381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rebuchet MS"/>
                </a:rPr>
                <a:t>Determining the Child’s Eligibil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905120" y="24382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A contains “Additional Procedures for Identifying Children with Specific Learning Dis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23880" y="160020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.s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267080" y="3581280"/>
            <a:ext cx="4368960" cy="290520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fade thruBlk="true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457200" y="304920"/>
            <a:ext cx="8381880" cy="609480"/>
            <a:chOff x="457200" y="304920"/>
            <a:chExt cx="8381880" cy="609480"/>
          </a:xfrm>
        </p:grpSpPr>
        <p:sp>
          <p:nvSpPr>
            <p:cNvPr id="178" name=""/>
            <p:cNvSpPr/>
            <p:nvPr/>
          </p:nvSpPr>
          <p:spPr>
            <a:xfrm>
              <a:off x="457200" y="914400"/>
              <a:ext cx="83818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200" y="304920"/>
              <a:ext cx="5105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50021"/>
                  </a:solidFill>
                  <a:latin typeface="Trebuchet MS"/>
                </a:rPr>
                <a:t>“</a:t>
              </a:r>
              <a:r>
                <a:rPr b="1" i="1" lang="en-US" sz="4400" spc="-1" strike="noStrike">
                  <a:solidFill>
                    <a:srgbClr val="a50021"/>
                  </a:solidFill>
                  <a:latin typeface="WinstonScript"/>
                </a:rPr>
                <a:t>C </a:t>
              </a:r>
              <a:r>
                <a:rPr b="1" lang="en-US" sz="3200" spc="-1" strike="noStrike">
                  <a:solidFill>
                    <a:srgbClr val="a50021"/>
                  </a:solidFill>
                  <a:latin typeface="Trebuchet MS"/>
                </a:rPr>
                <a:t>hild with a Disability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609480" y="1295280"/>
            <a:ext cx="822960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(a) General.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(1) </a:t>
            </a: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Child with a disability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means a child evaluated in accordance with §§300.304 through 300.311 as having mental retardation, a hearing impairment (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including deafness), a speech or language impairment, a visual impairment (including blindness), a serious emotional disturbance (referred to in this part as ‘‘emotional disturbance’’), an orthopedic impairment, autism, traumatic brain injury, an other health impairment, a specific learning disability, deafblindness, or multiple disabilities, and who, by reason thereof, needs special education and related servic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(2)(i) Subject to paragraph (a)(2)(ii) of this section, if it is determined, through an appropriate evaluation under 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§§ 300.304 through 300.311, that a child has one of the disabilities identified in paragraph (a)(1) of this section, but only needs a related service and not special education, the child is not a child with a disability under this p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(ii) If, consistent with §300.39(a)(2), the related service required by the child is considered special education rather than a related service under State standards, the child would be determined to be a child with a disability under paragraph (a)(1) of this sec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(b) </a:t>
            </a:r>
            <a:r>
              <a:rPr b="0" i="1" lang="en-US" sz="1400" spc="-1" strike="noStrike">
                <a:solidFill>
                  <a:srgbClr val="808080"/>
                </a:solidFill>
                <a:latin typeface="Times New Roman"/>
              </a:rPr>
              <a:t>Children aged three through nine experiencing developmental delays. Child with a disability 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for children aged three through nine (or any subset of that age range, including ages three through five), may, subject to the conditions described in §300.111(b), include a child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(1) Who is experiencing developmental delays, as defined by the State and as measured by appropriate diagnostic instruments and procedures, in one or more of the following areas: Physical development, cognitive development, communication development, social or emotional development, or adaptive development;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(2) Who, by reason thereof, needs special education and related services.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0400" y="3124080"/>
            <a:ext cx="5791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rebuchet MS"/>
              </a:rPr>
              <a:t>How do IDEA and the final regulations define </a:t>
            </a:r>
            <a:br>
              <a:rPr sz="3200"/>
            </a:br>
            <a:r>
              <a:rPr b="1" lang="en-US" sz="3200" spc="-1" strike="noStrike">
                <a:solidFill>
                  <a:srgbClr val="a50021"/>
                </a:solidFill>
                <a:latin typeface="Trebuchet MS"/>
              </a:rPr>
              <a:t>“</a:t>
            </a:r>
            <a:r>
              <a:rPr b="1" i="1" lang="en-US" sz="4400" spc="-1" strike="noStrike">
                <a:solidFill>
                  <a:srgbClr val="a50021"/>
                </a:solidFill>
                <a:latin typeface="WinstonScript"/>
              </a:rPr>
              <a:t>C</a:t>
            </a:r>
            <a:r>
              <a:rPr b="1" lang="en-US" sz="3200" spc="-1" strike="noStrike">
                <a:solidFill>
                  <a:srgbClr val="a50021"/>
                </a:solidFill>
                <a:latin typeface="Trebuchet MS"/>
              </a:rPr>
              <a:t>hild with a Disability”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53512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914400" y="1143000"/>
            <a:ext cx="3394080" cy="51055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p:transition spd="slow">
    <p:fade thruBlk="true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1143000"/>
            <a:ext cx="838188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28600"/>
            <a:ext cx="78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a50021"/>
              </a:buClr>
              <a:buFont typeface="Trebuchet MS"/>
              <a:buAutoNum type="arabicParenR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Trebuchet MS"/>
              </a:rPr>
              <a:t>Child with a disability</a:t>
            </a:r>
            <a:r>
              <a:rPr b="0" i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eans a child evaluated in accordance with §§300.304 through 300.311 as having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5791320"/>
            <a:ext cx="838188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59436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nd who, </a:t>
            </a:r>
            <a:r>
              <a:rPr b="0" lang="en-US" sz="2200" spc="-1" strike="noStrike">
                <a:solidFill>
                  <a:srgbClr val="a50021"/>
                </a:solidFill>
                <a:latin typeface="Trebuchet MS"/>
              </a:rPr>
              <a:t>by reason thereof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, needs special education and related servic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3085920" cy="46483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grpSp>
        <p:nvGrpSpPr>
          <p:cNvPr id="189" name=""/>
          <p:cNvGrpSpPr/>
          <p:nvPr/>
        </p:nvGrpSpPr>
        <p:grpSpPr>
          <a:xfrm>
            <a:off x="4800600" y="3657600"/>
            <a:ext cx="3962160" cy="3056040"/>
            <a:chOff x="4800600" y="3657600"/>
            <a:chExt cx="3962160" cy="3056040"/>
          </a:xfrm>
        </p:grpSpPr>
        <p:sp>
          <p:nvSpPr>
            <p:cNvPr id="190" name=""/>
            <p:cNvSpPr/>
            <p:nvPr/>
          </p:nvSpPr>
          <p:spPr>
            <a:xfrm>
              <a:off x="4800600" y="3657600"/>
              <a:ext cx="3962160" cy="3056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4913280" y="3827520"/>
              <a:ext cx="3736800" cy="2692440"/>
            </a:xfrm>
            <a:prstGeom prst="rect">
              <a:avLst/>
            </a:prstGeom>
            <a:ln w="38160">
              <a:solidFill>
                <a:srgbClr val="660033"/>
              </a:solidFill>
              <a:miter/>
            </a:ln>
          </p:spPr>
        </p:pic>
      </p:grp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380880" y="1447920"/>
            <a:ext cx="3056040" cy="4572000"/>
          </a:xfrm>
          <a:prstGeom prst="rect">
            <a:avLst/>
          </a:prstGeom>
          <a:ln w="38160">
            <a:solidFill>
              <a:srgbClr val="ffcc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93" name=""/>
          <p:cNvGrpSpPr/>
          <p:nvPr/>
        </p:nvGrpSpPr>
        <p:grpSpPr>
          <a:xfrm>
            <a:off x="304920" y="1295280"/>
            <a:ext cx="3429000" cy="5226120"/>
            <a:chOff x="304920" y="1295280"/>
            <a:chExt cx="3429000" cy="5226120"/>
          </a:xfrm>
        </p:grpSpPr>
        <p:pic>
          <p:nvPicPr>
            <p:cNvPr id="194" name="" descr=""/>
            <p:cNvPicPr/>
            <p:nvPr/>
          </p:nvPicPr>
          <p:blipFill>
            <a:blip r:embed="rId5"/>
            <a:stretch/>
          </p:blipFill>
          <p:spPr>
            <a:xfrm>
              <a:off x="304920" y="1295280"/>
              <a:ext cx="3429000" cy="270540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95" name="" descr=""/>
            <p:cNvPicPr/>
            <p:nvPr/>
          </p:nvPicPr>
          <p:blipFill>
            <a:blip r:embed="rId6"/>
            <a:stretch/>
          </p:blipFill>
          <p:spPr>
            <a:xfrm>
              <a:off x="304920" y="4267080"/>
              <a:ext cx="3352680" cy="2254320"/>
            </a:xfrm>
            <a:prstGeom prst="rect">
              <a:avLst/>
            </a:prstGeom>
            <a:ln w="12600">
              <a:solidFill>
                <a:srgbClr val="a50021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</p:grpSp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838080" y="1752480"/>
            <a:ext cx="2151360" cy="3200400"/>
          </a:xfrm>
          <a:prstGeom prst="rect">
            <a:avLst/>
          </a:prstGeom>
          <a:ln w="19080">
            <a:solidFill>
              <a:srgbClr val="66003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7" name=""/>
          <p:cNvSpPr/>
          <p:nvPr/>
        </p:nvSpPr>
        <p:spPr>
          <a:xfrm>
            <a:off x="3733920" y="1192320"/>
            <a:ext cx="51051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is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af-blind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af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otional disturb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ring impair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ntal retard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disa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thopedic impair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health impair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ic learning disabi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ech or language impair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umatic brain injury </a:t>
            </a:r>
            <a:r>
              <a:rPr b="0" i="1" lang="en-US" sz="2200" spc="-1" strike="noStrike">
                <a:solidFill>
                  <a:srgbClr val="a50021"/>
                </a:solidFill>
                <a:latin typeface="Times New Roman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sual impairment (including blindne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This module looks at</a:t>
            </a:r>
            <a:r>
              <a:rPr b="0" lang="en-US" sz="4800" spc="-1" strike="noStrike">
                <a:solidFill>
                  <a:srgbClr val="000099"/>
                </a:solidFill>
                <a:latin typeface="Trebuchet MS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75"/>
              </a:spcBef>
              <a:buClr>
                <a:srgbClr val="a50021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rposes of evalu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75"/>
              </a:spcBef>
              <a:buClr>
                <a:srgbClr val="a50021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questing evalu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75"/>
              </a:spcBef>
              <a:buClr>
                <a:srgbClr val="a50021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ent cons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75"/>
              </a:spcBef>
              <a:buClr>
                <a:srgbClr val="a50021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cess of initial evalu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75"/>
              </a:spcBef>
              <a:buClr>
                <a:srgbClr val="a50021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DEA’s definition of “child with a disability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75"/>
              </a:spcBef>
              <a:buClr>
                <a:srgbClr val="a50021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igibility determin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75"/>
              </a:spcBef>
              <a:buClr>
                <a:srgbClr val="a50021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evalu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600200"/>
            <a:ext cx="609624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4186080" cy="27972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1676520" y="2286000"/>
            <a:ext cx="6400800" cy="1600200"/>
            <a:chOff x="1676520" y="2286000"/>
            <a:chExt cx="6400800" cy="1600200"/>
          </a:xfrm>
        </p:grpSpPr>
        <p:sp>
          <p:nvSpPr>
            <p:cNvPr id="199" name=""/>
            <p:cNvSpPr/>
            <p:nvPr/>
          </p:nvSpPr>
          <p:spPr>
            <a:xfrm>
              <a:off x="1676520" y="2286000"/>
              <a:ext cx="6400800" cy="16002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ffcc00"/>
                </a:gs>
                <a:gs pos="100000">
                  <a:srgbClr val="cc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6000" y="2743200"/>
              <a:ext cx="5105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rebuchet MS"/>
                </a:rPr>
                <a:t>Who, by reason thereof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057400" y="4114800"/>
            <a:ext cx="5715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2057400"/>
            <a:ext cx="5715000" cy="0"/>
          </a:xfrm>
          <a:prstGeom prst="line">
            <a:avLst/>
          </a:prstGeom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7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695320" cy="4038480"/>
          </a:xfrm>
          <a:prstGeom prst="rect">
            <a:avLst/>
          </a:prstGeom>
          <a:ln w="572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5257800" y="4114800"/>
            <a:ext cx="3581280" cy="2398680"/>
          </a:xfrm>
          <a:prstGeom prst="rect">
            <a:avLst/>
          </a:prstGeom>
          <a:ln w="19080">
            <a:solidFill>
              <a:srgbClr val="ffcc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5" name=""/>
          <p:cNvSpPr/>
          <p:nvPr/>
        </p:nvSpPr>
        <p:spPr>
          <a:xfrm>
            <a:off x="144792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5867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419720" y="304920"/>
            <a:ext cx="4495680" cy="29620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3778920" y="486720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cc6600"/>
                </a:solidFill>
                <a:latin typeface="Calisto MT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772400" y="3276360"/>
            <a:ext cx="0" cy="685800"/>
          </a:xfrm>
          <a:prstGeom prst="line">
            <a:avLst/>
          </a:prstGeom>
          <a:ln w="9360">
            <a:solidFill>
              <a:srgbClr val="cc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5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1371600"/>
            <a:ext cx="838188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609480"/>
            <a:ext cx="4648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0021"/>
                </a:solidFill>
                <a:latin typeface="WinstonScript"/>
              </a:rPr>
              <a:t>C </a:t>
            </a:r>
            <a:r>
              <a:rPr b="1" lang="en-US" sz="3200" spc="-1" strike="noStrike">
                <a:solidFill>
                  <a:srgbClr val="a50021"/>
                </a:solidFill>
                <a:latin typeface="Trebuchet MS"/>
              </a:rPr>
              <a:t>hild with a Di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15000" y="2438280"/>
            <a:ext cx="281952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Aft>
                <a:spcPts val="550"/>
              </a:spcAft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hildren age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3 through 9*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ho are experiencing “</a:t>
            </a:r>
            <a:r>
              <a:rPr b="0" lang="en-US" sz="2200" spc="-1" strike="noStrike">
                <a:solidFill>
                  <a:srgbClr val="a50021"/>
                </a:solidFill>
                <a:latin typeface="Trebuchet MS"/>
              </a:rPr>
              <a:t>developmental delays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1600200"/>
            <a:ext cx="76197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nder §300.8(b), a State may adopt a definitio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a50021"/>
                </a:solidFill>
                <a:latin typeface="Trebuchet MS"/>
              </a:rPr>
              <a:t>child with a disability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that includ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38080" y="2590920"/>
            <a:ext cx="4724640" cy="312552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215" name=""/>
          <p:cNvGrpSpPr/>
          <p:nvPr/>
        </p:nvGrpSpPr>
        <p:grpSpPr>
          <a:xfrm>
            <a:off x="6400800" y="5867280"/>
            <a:ext cx="2416320" cy="780120"/>
            <a:chOff x="6400800" y="5867280"/>
            <a:chExt cx="2416320" cy="780120"/>
          </a:xfrm>
        </p:grpSpPr>
        <p:sp>
          <p:nvSpPr>
            <p:cNvPr id="216" name=""/>
            <p:cNvSpPr/>
            <p:nvPr/>
          </p:nvSpPr>
          <p:spPr>
            <a:xfrm>
              <a:off x="6400800" y="5943600"/>
              <a:ext cx="2416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*(or any subset </a:t>
              </a:r>
              <a:br>
                <a:rPr sz="2000"/>
              </a:b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 of that age rang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00800" y="58672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380880"/>
            <a:ext cx="5486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0021"/>
                </a:solidFill>
                <a:latin typeface="WinstonScript"/>
              </a:rPr>
              <a:t>D </a:t>
            </a:r>
            <a:r>
              <a:rPr b="1" lang="en-US" sz="3200" spc="-1" strike="noStrike">
                <a:solidFill>
                  <a:srgbClr val="a50021"/>
                </a:solidFill>
                <a:latin typeface="Trebuchet MS"/>
              </a:rPr>
              <a:t>evelopmental Del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3048120"/>
            <a:ext cx="5105160" cy="26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79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9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9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9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or emotional development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936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Times New Roman"/>
              <a:buChar char="•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development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279360"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6095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finition includes that all-impor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by reason there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1905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asured by appropriate diagnostic instruments and procedures, in 1 or more of these area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295280"/>
            <a:ext cx="31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fined by the Stat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419720" y="1295280"/>
            <a:ext cx="3305160" cy="495324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914400" y="2895480"/>
            <a:ext cx="2001960" cy="274320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fade thruBlk="true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990720" y="380880"/>
            <a:ext cx="7493040" cy="498312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7" name=""/>
          <p:cNvSpPr/>
          <p:nvPr/>
        </p:nvSpPr>
        <p:spPr>
          <a:xfrm>
            <a:off x="609480" y="5791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o—is the child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child with a dis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der IDE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724280" y="2209680"/>
            <a:ext cx="3962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ublic agency provides parent wit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py of evaluation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of eligibility determina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 no cost to the pa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3670560" cy="502920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0" name=""/>
          <p:cNvSpPr/>
          <p:nvPr/>
        </p:nvSpPr>
        <p:spPr>
          <a:xfrm>
            <a:off x="380880" y="228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pon completion of the administration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ssessments and other evalua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143000"/>
            <a:ext cx="838188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457200" y="228600"/>
            <a:ext cx="8381880" cy="990720"/>
            <a:chOff x="457200" y="228600"/>
            <a:chExt cx="8381880" cy="990720"/>
          </a:xfrm>
        </p:grpSpPr>
        <p:sp>
          <p:nvSpPr>
            <p:cNvPr id="233" name=""/>
            <p:cNvSpPr/>
            <p:nvPr/>
          </p:nvSpPr>
          <p:spPr>
            <a:xfrm>
              <a:off x="1371600" y="304920"/>
              <a:ext cx="6629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914400"/>
              <a:ext cx="76212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77320" y="838080"/>
              <a:ext cx="68580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228600"/>
              <a:ext cx="8381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rebuchet MS"/>
                </a:rPr>
                <a:t>Reevalu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0" y="396252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Trebuchet MS"/>
              </a:rPr>
              <a:t>Must</a:t>
            </a:r>
            <a:r>
              <a:rPr b="0" lang="en-US" sz="2400" spc="-1" strike="noStrike">
                <a:solidFill>
                  <a:srgbClr val="a50021"/>
                </a:solidFill>
                <a:latin typeface="Trebuchet MS"/>
              </a:rPr>
              <a:t> occur at least once every 3 years—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less parent and public agency agree a reevaluation is un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182880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rebuchet MS"/>
              </a:rPr>
              <a:t>May occur not more than once a year—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less parent and public agency agree other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3325680" cy="510552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fade thruBlk="true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371600" y="304920"/>
            <a:ext cx="6629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914400"/>
            <a:ext cx="7621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77320" y="838080"/>
            <a:ext cx="6858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304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reevaluation shar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ith initial eval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114300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 written no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al safeguards notice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of existing evalua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 con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1600200"/>
            <a:ext cx="358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hering additional data, if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 involvement in evaluat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 involvement in eligibility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 involved in determining eli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ing to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4191120"/>
            <a:ext cx="3657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62120" y="4343400"/>
            <a:ext cx="3276360" cy="21337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248" name=""/>
          <p:cNvSpPr/>
          <p:nvPr/>
        </p:nvSpPr>
        <p:spPr>
          <a:xfrm>
            <a:off x="685800" y="4191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5943600"/>
            <a:ext cx="3352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on parent request for an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5943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371600" y="304920"/>
            <a:ext cx="6629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914400"/>
            <a:ext cx="7621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077320" y="838080"/>
            <a:ext cx="6858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95280" y="533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ther Evaluation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16002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is required before determining a child is no longer a “child with a disability”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43400" y="2438280"/>
            <a:ext cx="4419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child’s eligibility under Part B ends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ild graduates from secondary school with a regular diploma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349"/>
              </a:spcAft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ild exceeds age eligi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FAPE under State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066680" y="2666880"/>
            <a:ext cx="3047760" cy="3885840"/>
            <a:chOff x="1066680" y="2666880"/>
            <a:chExt cx="3047760" cy="3885840"/>
          </a:xfrm>
        </p:grpSpPr>
        <p:sp>
          <p:nvSpPr>
            <p:cNvPr id="258" name=""/>
            <p:cNvSpPr/>
            <p:nvPr/>
          </p:nvSpPr>
          <p:spPr>
            <a:xfrm>
              <a:off x="1066680" y="2666880"/>
              <a:ext cx="3047760" cy="388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2"/>
            <a:stretch/>
          </p:blipFill>
          <p:spPr>
            <a:xfrm>
              <a:off x="1352160" y="2925720"/>
              <a:ext cx="2605320" cy="345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2438280" y="2514600"/>
            <a:ext cx="6248520" cy="4162320"/>
          </a:xfrm>
          <a:prstGeom prst="rect">
            <a:avLst/>
          </a:prstGeom>
          <a:ln w="9360">
            <a:solidFill>
              <a:srgbClr val="a50021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fade thruBlk="true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1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371600" y="304920"/>
            <a:ext cx="6629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914400"/>
            <a:ext cx="7621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077320" y="838080"/>
            <a:ext cx="6858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533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ther Evaluation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2891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hild’s eligibility under Part B ends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295280"/>
            <a:ext cx="449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agency must provide child with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of child’s academic achievement and functional performance, includ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dations on how to assist child in meeting his or her postsecondary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2514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17524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1219320" y="2743200"/>
            <a:ext cx="2474640" cy="37339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fade thruBlk="true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62320" y="228600"/>
            <a:ext cx="41148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914400"/>
            <a:ext cx="16765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838080"/>
            <a:ext cx="18288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304920"/>
            <a:ext cx="563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Purposes of 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Initial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981080"/>
            <a:ext cx="670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ee if the child is a “child with a disability,”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fined by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ather information that will help determine child’s educational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uide decision mak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appropriate education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for the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2698920" cy="335268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638680" y="3962520"/>
            <a:ext cx="1905120" cy="259056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486400" y="3962520"/>
            <a:ext cx="3276720" cy="218268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914400"/>
            <a:ext cx="18288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666880" y="228600"/>
            <a:ext cx="3610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Roundup Tim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72" name=""/>
          <p:cNvSpPr/>
          <p:nvPr/>
        </p:nvSpPr>
        <p:spPr>
          <a:xfrm>
            <a:off x="6553080" y="838080"/>
            <a:ext cx="18288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0" y="609480"/>
            <a:ext cx="38862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1219320"/>
            <a:ext cx="2286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6858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Requesting an 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Initial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2362320"/>
            <a:ext cx="381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par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a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public agenc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sk for an initial evaluation of a chi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ublic ag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obtain parent consent before conducting initial evaluation of the chi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3908520" cy="586728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152280"/>
            <a:ext cx="5943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838080"/>
            <a:ext cx="16765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2860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50021"/>
                </a:solidFill>
                <a:latin typeface="Trebuchet MS"/>
              </a:rPr>
              <a:t>Before</a:t>
            </a:r>
            <a:r>
              <a:rPr b="0" lang="en-US" sz="3200" spc="-1" strike="noStrike">
                <a:solidFill>
                  <a:srgbClr val="a50021"/>
                </a:solidFill>
                <a:latin typeface="Trebuchet MS"/>
              </a:rPr>
              <a:t> Any Initial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267080" y="3429000"/>
            <a:ext cx="4724640" cy="3143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114800" y="3251160"/>
            <a:ext cx="5029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82880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ublic agency mus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29600" y="8380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666880"/>
            <a:ext cx="365760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parent with 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prior written no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parent with 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procedural safeguards no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 parent’s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informed written cons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19320" y="5181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rent consent for initial evaluation </a:t>
            </a:r>
            <a:r>
              <a:rPr b="0" lang="en-US" sz="2400" spc="-1" strike="noStrike">
                <a:solidFill>
                  <a:srgbClr val="a50021"/>
                </a:solidFill>
                <a:latin typeface="Trebuchet MS"/>
              </a:rPr>
              <a:t>must no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e construed as consent for initial provision of special education and relate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457200"/>
            <a:ext cx="8458200" cy="60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4902120" cy="32608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2286000" y="39625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ent is for initial evaluation, nothing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50292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457200" y="228600"/>
            <a:ext cx="8381880" cy="990720"/>
            <a:chOff x="457200" y="228600"/>
            <a:chExt cx="8381880" cy="990720"/>
          </a:xfrm>
        </p:grpSpPr>
        <p:sp>
          <p:nvSpPr>
            <p:cNvPr id="80" name=""/>
            <p:cNvSpPr/>
            <p:nvPr/>
          </p:nvSpPr>
          <p:spPr>
            <a:xfrm>
              <a:off x="1371600" y="304920"/>
              <a:ext cx="6629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" y="914400"/>
              <a:ext cx="76212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77320" y="838080"/>
              <a:ext cx="68580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228600"/>
              <a:ext cx="8381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Trebuchet MS"/>
                </a:rPr>
                <a:t>Parent Consent for Initial 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600200" y="2057400"/>
            <a:ext cx="678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at is the public agency’s oblig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 does not provide consent for initial eval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 does not respond to a request to provide con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304920"/>
            <a:ext cx="6629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914400"/>
            <a:ext cx="7621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77320" y="838080"/>
            <a:ext cx="6858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rebuchet MS"/>
              </a:rPr>
              <a:t>Key Points about Initial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514600"/>
            <a:ext cx="5029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conducted within 60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parental consent for evaluation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or within State-established timel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ull and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2818080" cy="3886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715000" y="1828800"/>
            <a:ext cx="3124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304920"/>
            <a:ext cx="6629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914400"/>
            <a:ext cx="7621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077320" y="838080"/>
            <a:ext cx="6858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rebuchet MS"/>
              </a:rPr>
              <a:t>Key Points about Initial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190512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use a variety of assessment tools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a5002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gather relevant information about the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3657600"/>
            <a:ext cx="5029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men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ade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ing what the parents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3124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3200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548640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81080" y="2514600"/>
            <a:ext cx="5562720" cy="3809880"/>
            <a:chOff x="1981080" y="2514600"/>
            <a:chExt cx="5562720" cy="3809880"/>
          </a:xfrm>
        </p:grpSpPr>
        <p:sp>
          <p:nvSpPr>
            <p:cNvPr id="102" name=""/>
            <p:cNvSpPr/>
            <p:nvPr/>
          </p:nvSpPr>
          <p:spPr>
            <a:xfrm>
              <a:off x="1981080" y="2514600"/>
              <a:ext cx="5562720" cy="3809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2133360" y="2666880"/>
              <a:ext cx="5283360" cy="354024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</p:spTree>
  </p:cSld>
  <p:transition spd="slow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8:55:03Z</dcterms:created>
  <dc:creator>Lisa Kupper</dc:creator>
  <dc:description/>
  <dc:language>en-US</dc:language>
  <cp:lastModifiedBy>Lisa Küpper</cp:lastModifiedBy>
  <dcterms:modified xsi:type="dcterms:W3CDTF">2007-03-18T18:55:04Z</dcterms:modified>
  <cp:revision>187</cp:revision>
  <dc:subject/>
  <dc:title>History of IDEA</dc:title>
</cp:coreProperties>
</file>