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F51-1638-4893-974F-B91C336C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16C-FE91-432D-A8B5-D9F9AB99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9F4-94C2-4135-B65C-86C06FD7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8D0-1215-42F2-B5EC-DE31D455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971-5D87-4A55-B5D9-F991941D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7A6-410B-44A3-9997-AF04EEF9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B9F-E08C-40E3-A5B6-EB41B7E7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D1E-4102-47BD-8F42-7C444099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986-B225-4AB1-9484-178C0774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4BA-DFEA-4589-936F-5090B35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EF6-CC4A-47DB-A500-9F639088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36A-7347-4FF7-B938-1823667C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2806-5A87-41A9-BCA0-88109D16D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image" Target="../media/image42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39280" cy="695484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3504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ushFlair"/>
              </a:rPr>
              <a:t>I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ntroduction to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Procedural Safegu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5334120"/>
            <a:ext cx="82296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624852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Produced by NICHCY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600200"/>
            <a:ext cx="853416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-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W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itten No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7621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914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re of the model for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819520"/>
            <a:ext cx="64771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189000" indent="-189000">
              <a:lnSpc>
                <a:spcPct val="8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 of each evaluation procedure, assessment, record, or report school district used in deciding to propose or refuse the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267080"/>
            <a:ext cx="64771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505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189000" indent="-189000">
              <a:lnSpc>
                <a:spcPct val="8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 of any other choices IEP Team considered and the reason why these choices were rej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5715000"/>
            <a:ext cx="64771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952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10240" indent="-210240">
              <a:lnSpc>
                <a:spcPct val="8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 of other reasons why school district proposed or refused the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646128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1609560"/>
            <a:ext cx="7758000" cy="4500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-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W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itten No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7621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9907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re of the model for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971800"/>
            <a:ext cx="64767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1337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10240" indent="-210240">
              <a:lnSpc>
                <a:spcPct val="8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sources for the parents to contact for help in understanding Part B of the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181480"/>
            <a:ext cx="64767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40384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24920" indent="-124920">
              <a:lnSpc>
                <a:spcPct val="8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f this notice is not an initial referral for evaluation,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ow the parent can obtain a copy of a description of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procedural safegu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624852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-1219320" y="0"/>
            <a:ext cx="10363320" cy="690408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609480" y="380880"/>
            <a:ext cx="7772400" cy="6019920"/>
            <a:chOff x="609480" y="380880"/>
            <a:chExt cx="7772400" cy="6019920"/>
          </a:xfrm>
        </p:grpSpPr>
        <p:sp>
          <p:nvSpPr>
            <p:cNvPr id="154" name=""/>
            <p:cNvSpPr/>
            <p:nvPr/>
          </p:nvSpPr>
          <p:spPr>
            <a:xfrm>
              <a:off x="609480" y="380880"/>
              <a:ext cx="7772400" cy="6019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838080" y="990720"/>
              <a:ext cx="7315200" cy="48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838080" y="586728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1143000"/>
            <a:ext cx="7009920" cy="4739760"/>
            <a:chOff x="990720" y="1143000"/>
            <a:chExt cx="7009920" cy="4739760"/>
          </a:xfrm>
        </p:grpSpPr>
        <p:sp>
          <p:nvSpPr>
            <p:cNvPr id="158" name=""/>
            <p:cNvSpPr/>
            <p:nvPr/>
          </p:nvSpPr>
          <p:spPr>
            <a:xfrm>
              <a:off x="990720" y="1143000"/>
              <a:ext cx="7009920" cy="4739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1385640" y="1438920"/>
              <a:ext cx="6220080" cy="4167720"/>
            </a:xfrm>
            <a:prstGeom prst="rect">
              <a:avLst/>
            </a:prstGeom>
            <a:ln w="9360">
              <a:solidFill>
                <a:srgbClr val="000099"/>
              </a:solidFill>
              <a:miter/>
            </a:ln>
          </p:spPr>
        </p:pic>
      </p:grp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371600" y="1447920"/>
            <a:ext cx="6248520" cy="4162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1371600" y="1447920"/>
            <a:ext cx="6248520" cy="42289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 spd="slow">
    <p:fade thruBlk="true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408480" cy="51055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3" name=""/>
          <p:cNvSpPr/>
          <p:nvPr/>
        </p:nvSpPr>
        <p:spPr>
          <a:xfrm>
            <a:off x="457200" y="-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P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ior Written No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83808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11430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ritten notice mus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182880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in language understandabl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365760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 native language of parent or other mode of communication used by parent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5791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less it is clearly no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easible to do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640080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imon </a:t>
            </a: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2193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5791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tand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3093840" cy="472428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5" name=""/>
          <p:cNvSpPr/>
          <p:nvPr/>
        </p:nvSpPr>
        <p:spPr>
          <a:xfrm>
            <a:off x="457200" y="21337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re you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6019920" cy="40100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905120" y="4343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Good, good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267080" y="685800"/>
            <a:ext cx="3243240" cy="48769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228600" y="64008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imon </a:t>
            </a: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2193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971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ow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3406680" cy="51055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4495680" y="53341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tre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601992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reat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41148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Flair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w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3406680" cy="51055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066680" y="1371600"/>
            <a:ext cx="6705720" cy="446724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9" name=""/>
          <p:cNvSpPr/>
          <p:nvPr/>
        </p:nvSpPr>
        <p:spPr>
          <a:xfrm>
            <a:off x="4267080" y="601992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Go ea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86728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one of this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66680" y="1371600"/>
            <a:ext cx="6705720" cy="44751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295280" y="594360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Just get the knots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981080" y="1447920"/>
            <a:ext cx="2887920" cy="43434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143000" y="1447920"/>
            <a:ext cx="6400800" cy="42559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886200" y="609480"/>
            <a:ext cx="3932280" cy="59436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3886200" y="609480"/>
            <a:ext cx="3959280" cy="59436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1600200" y="1371600"/>
            <a:ext cx="3508200" cy="52578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11"/>
          <a:stretch/>
        </p:blipFill>
        <p:spPr>
          <a:xfrm>
            <a:off x="3733920" y="914400"/>
            <a:ext cx="4330440" cy="52578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7062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3"/>
          <a:stretch/>
        </p:blipFill>
        <p:spPr>
          <a:xfrm>
            <a:off x="-1447920" y="0"/>
            <a:ext cx="10591920" cy="7043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900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7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5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6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7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599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4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70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2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3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1000"/>
                            </p:stCondLst>
                            <p:childTnLst>
                              <p:par>
                                <p:cTn id="633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70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30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80000"/>
                            </p:stCondLst>
                            <p:childTnLst>
                              <p:par>
                                <p:cTn id="649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7000"/>
                            </p:stCondLst>
                            <p:childTnLst>
                              <p:par>
                                <p:cTn id="656" nodeType="after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94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1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1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4" dur="1" fill="hold"/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-1143000" y="0"/>
            <a:ext cx="10515600" cy="7016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-609480" y="0"/>
            <a:ext cx="9753480" cy="70596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4267080" y="685800"/>
            <a:ext cx="3810240" cy="5334120"/>
            <a:chOff x="4267080" y="685800"/>
            <a:chExt cx="3810240" cy="5334120"/>
          </a:xfrm>
        </p:grpSpPr>
        <p:sp>
          <p:nvSpPr>
            <p:cNvPr id="204" name=""/>
            <p:cNvSpPr/>
            <p:nvPr/>
          </p:nvSpPr>
          <p:spPr>
            <a:xfrm>
              <a:off x="4419720" y="685800"/>
              <a:ext cx="3657600" cy="53341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4"/>
            <a:srcRect l="-9105" t="0" r="0" b="0"/>
            <a:stretch/>
          </p:blipFill>
          <p:spPr>
            <a:xfrm>
              <a:off x="4267080" y="838080"/>
              <a:ext cx="3649680" cy="502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57200" y="1219320"/>
            <a:ext cx="8305920" cy="53290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80880" y="609480"/>
            <a:ext cx="8458200" cy="58993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-1143000" y="0"/>
            <a:ext cx="10515600" cy="70452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609480" y="2286000"/>
            <a:ext cx="2981520" cy="4343400"/>
            <a:chOff x="609480" y="2286000"/>
            <a:chExt cx="2981520" cy="4343400"/>
          </a:xfrm>
        </p:grpSpPr>
        <p:sp>
          <p:nvSpPr>
            <p:cNvPr id="210" name=""/>
            <p:cNvSpPr/>
            <p:nvPr/>
          </p:nvSpPr>
          <p:spPr>
            <a:xfrm>
              <a:off x="609480" y="2286000"/>
              <a:ext cx="2981520" cy="4343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784800" y="2415240"/>
              <a:ext cx="2676240" cy="401940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</p:spTree>
  </p:cSld>
  <p:transition spd="slow">
    <p:fade thruBlk="true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0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6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6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2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685800"/>
            <a:ext cx="6705720" cy="4876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334120" cy="35528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2514600" y="487692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51814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57150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ack in the sadd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1143000"/>
            <a:ext cx="8534520" cy="5029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-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P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ocedural Safeguards No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83808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16765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omprehensive written explanation of procedural safe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32004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rovided to parents once per school year and with other specific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47242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written in understandabl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85800" y="1600200"/>
            <a:ext cx="3440160" cy="3886200"/>
            <a:chOff x="685800" y="1600200"/>
            <a:chExt cx="3440160" cy="3886200"/>
          </a:xfrm>
        </p:grpSpPr>
        <p:sp>
          <p:nvSpPr>
            <p:cNvPr id="224" name=""/>
            <p:cNvSpPr/>
            <p:nvPr/>
          </p:nvSpPr>
          <p:spPr>
            <a:xfrm>
              <a:off x="685800" y="1600200"/>
              <a:ext cx="3440160" cy="3886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812880" y="1727280"/>
              <a:ext cx="3174480" cy="356760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533520" y="1828800"/>
            <a:ext cx="3733560" cy="3276720"/>
            <a:chOff x="533520" y="1828800"/>
            <a:chExt cx="3733560" cy="3276720"/>
          </a:xfrm>
        </p:grpSpPr>
        <p:sp>
          <p:nvSpPr>
            <p:cNvPr id="227" name=""/>
            <p:cNvSpPr/>
            <p:nvPr/>
          </p:nvSpPr>
          <p:spPr>
            <a:xfrm>
              <a:off x="533520" y="1828800"/>
              <a:ext cx="3733560" cy="32767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685440" y="2057400"/>
              <a:ext cx="3428640" cy="2859120"/>
            </a:xfrm>
            <a:prstGeom prst="rect">
              <a:avLst/>
            </a:prstGeom>
            <a:ln w="9360">
              <a:solidFill>
                <a:srgbClr val="000099"/>
              </a:solidFill>
              <a:miter/>
            </a:ln>
          </p:spPr>
        </p:pic>
      </p:grp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85800" y="1371600"/>
            <a:ext cx="3040200" cy="45720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914400" y="63244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04920" y="1523880"/>
            <a:ext cx="2819160" cy="4876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-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P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rocedural Safeguards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7621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914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2666880"/>
            <a:ext cx="50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receipt of first State complaint in a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16002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initial referral or parent request for evaluation, including re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0800" y="914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rebuchet MS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3657600"/>
            <a:ext cx="52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receipt of first due process hearing complaint in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472428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ate of decision to make disciplinary change of placement for violation of code of student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29960" y="6018840"/>
            <a:ext cx="49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opy is requested by a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2422440" cy="3581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762120" y="5638680"/>
            <a:ext cx="198108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5867280"/>
            <a:ext cx="167652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647712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7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400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990720"/>
            <a:ext cx="3657600" cy="5333760"/>
          </a:xfrm>
          <a:prstGeom prst="rect">
            <a:avLst/>
          </a:prstGeom>
          <a:solidFill>
            <a:srgbClr val="000099"/>
          </a:solidFill>
          <a:ln w="9360">
            <a:solidFill>
              <a:srgbClr val="a50021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Modules in the Procedural Safeguards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0600" y="251424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verview of Procedural Safegu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for Dispute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ssues in Discip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743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3343320" cy="5029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838080" y="640080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-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P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rocedural Safeguards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762120"/>
            <a:ext cx="838188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1600200"/>
            <a:ext cx="38098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educational evaluations (I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written noti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3352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nd there’s 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15200" y="3733920"/>
            <a:ext cx="1523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7840" y="101592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rebuchet MS"/>
              </a:rPr>
              <a:t>Must expl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990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to present and resolve complaints through due process complaint and State complaint procedures including certain 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4343400"/>
            <a:ext cx="46483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 of 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’s placement during pendency of any due process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971800"/>
            <a:ext cx="38098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education recor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876920" y="762120"/>
            <a:ext cx="3371760" cy="5410080"/>
            <a:chOff x="4876920" y="762120"/>
            <a:chExt cx="3371760" cy="5410080"/>
          </a:xfrm>
        </p:grpSpPr>
        <p:sp>
          <p:nvSpPr>
            <p:cNvPr id="255" name=""/>
            <p:cNvSpPr/>
            <p:nvPr/>
          </p:nvSpPr>
          <p:spPr>
            <a:xfrm>
              <a:off x="4876920" y="762120"/>
              <a:ext cx="3371760" cy="54100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4947120" y="831960"/>
              <a:ext cx="3219120" cy="526968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sp>
        <p:nvSpPr>
          <p:cNvPr id="257" name=""/>
          <p:cNvSpPr/>
          <p:nvPr/>
        </p:nvSpPr>
        <p:spPr>
          <a:xfrm>
            <a:off x="5334120" y="63244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-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P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rocedural Safeguards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762120"/>
            <a:ext cx="838188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6002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for students subject to placements in an interim alternative educational setting (IA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7840" y="101592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rebuchet MS"/>
              </a:rPr>
              <a:t>Must expl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1600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-level appeals (if applicable in the S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2578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ings on due process complaints, including required disclosur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3429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required if parents are seeking a unilateral private school placement at public expen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2666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3276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orney’s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648320" y="762120"/>
            <a:ext cx="3828960" cy="57150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676680" cy="5486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69" name=""/>
          <p:cNvSpPr/>
          <p:nvPr/>
        </p:nvSpPr>
        <p:spPr>
          <a:xfrm>
            <a:off x="5410080" y="655308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14400" y="1154160"/>
            <a:ext cx="347832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S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elected Other Concepts and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91440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2499480"/>
            <a:ext cx="3456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7760" indent="-347760">
              <a:lnSpc>
                <a:spcPct val="100000"/>
              </a:lnSpc>
              <a:spcAft>
                <a:spcPts val="2401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dependent educational evaluation (I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401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rrogate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401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ge of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3351240" cy="5040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1295280" y="640080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ndependent Educational Eval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2952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who disagree with the school’s evaluation may request an IEE at public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7621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0374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an IEE request, school must inform parents of where one may be obtained and any applic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c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74040" y="1218240"/>
            <a:ext cx="25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must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1824840"/>
            <a:ext cx="4114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1160" indent="-281160">
              <a:lnSpc>
                <a:spcPct val="100000"/>
              </a:lnSpc>
              <a:spcAft>
                <a:spcPts val="751"/>
              </a:spcAft>
              <a:buClr>
                <a:srgbClr val="a50021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to pay for an IE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Aft>
                <a:spcPts val="751"/>
              </a:spcAft>
              <a:buClr>
                <a:srgbClr val="a50021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a due proc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ing to defend its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42346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chool successfully defends its eval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 may not be at public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1219320"/>
            <a:ext cx="0" cy="502920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3886200" cy="25891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809880" cy="2532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3962520" cy="26445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3886200"/>
            <a:ext cx="4038480" cy="268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266760" y="914400"/>
            <a:ext cx="861048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12178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s of an IEE that meets agenc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44935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en making any decisions about the provision of FAPE to the chi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16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1293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ether at public or private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0164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must b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a50021"/>
                </a:solidFill>
                <a:latin typeface="Trebuchet MS"/>
              </a:rPr>
              <a:t>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685800" y="2438280"/>
            <a:ext cx="4267080" cy="28386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8" name=""/>
          <p:cNvSpPr/>
          <p:nvPr/>
        </p:nvSpPr>
        <p:spPr>
          <a:xfrm>
            <a:off x="6324480" y="632448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2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8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4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0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9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0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7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9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57200" y="-76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S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urrogate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83808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988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needed to protect the rights of a child with a disability, a </a:t>
            </a: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surrogate parent may be appointe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7600" y="2656080"/>
            <a:ext cx="510552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3680" indent="-463680">
              <a:lnSpc>
                <a:spcPct val="100000"/>
              </a:lnSpc>
              <a:spcAft>
                <a:spcPts val="901"/>
              </a:spcAft>
              <a:buClr>
                <a:srgbClr val="a50021"/>
              </a:buClr>
              <a:buSzPct val="90000"/>
              <a:buFont typeface="Times New Roman"/>
              <a:buChar char="•"/>
              <a:tabLst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 is a ward of the State under Stat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spcAft>
                <a:spcPts val="901"/>
              </a:spcAft>
              <a:buClr>
                <a:srgbClr val="a50021"/>
              </a:buClr>
              <a:buSzPct val="90000"/>
              <a:buFont typeface="Times New Roman"/>
              <a:buChar char="•"/>
              <a:tabLst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 is an ‘unaccompanied homeless youth’ under federa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spcAft>
                <a:spcPts val="901"/>
              </a:spcAft>
              <a:buClr>
                <a:srgbClr val="a50021"/>
              </a:buClr>
              <a:buSzPct val="90000"/>
              <a:buFont typeface="Times New Roman"/>
              <a:buChar char="•"/>
              <a:tabLst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arent can be identified for the child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spcAft>
                <a:spcPts val="901"/>
              </a:spcAft>
              <a:buClr>
                <a:srgbClr val="a50021"/>
              </a:buClr>
              <a:buSzPct val="90000"/>
              <a:buFont typeface="Times New Roman"/>
              <a:buChar char="•"/>
              <a:tabLst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, after reasonable efforts, cannot locate the child’s pa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2446560" cy="3657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457200" y="2362320"/>
            <a:ext cx="845820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64008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57200" y="-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ge of Maj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7621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47980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ge when State law recognizes that an individual can exercise certain legal rights and responsibilities (e.g., entering into binding contracts, executing a valid will, and vo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8827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general, 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age of major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62320" y="1523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4521240" cy="300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685800" y="8827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A’s </a:t>
            </a:r>
            <a:r>
              <a:rPr b="0" lang="en-US" sz="2400" spc="-1" strike="noStrike" u="sng">
                <a:solidFill>
                  <a:srgbClr val="a50021"/>
                </a:solidFill>
                <a:uFillTx/>
                <a:latin typeface="Trebuchet MS"/>
              </a:rPr>
              <a:t>age of major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rovis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0400" y="52099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States, under certain circumstances, to transfer parental rights to the individual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2743200" y="1676520"/>
            <a:ext cx="2092320" cy="31240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6" name=""/>
          <p:cNvSpPr/>
          <p:nvPr/>
        </p:nvSpPr>
        <p:spPr>
          <a:xfrm>
            <a:off x="762120" y="106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re is a special ru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2743200" y="1752480"/>
            <a:ext cx="4572000" cy="30369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8" name=""/>
          <p:cNvSpPr/>
          <p:nvPr/>
        </p:nvSpPr>
        <p:spPr>
          <a:xfrm>
            <a:off x="3124080" y="484416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9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States that allow determinations that a child is 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unab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o provide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informed consen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respect to his or her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ducational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8120" y="4952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4008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9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BrushFlair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ook from Oute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5791320" cy="4473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324" name=""/>
          <p:cNvSpPr/>
          <p:nvPr/>
        </p:nvSpPr>
        <p:spPr>
          <a:xfrm>
            <a:off x="1523880" y="1219320"/>
            <a:ext cx="6019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Dispute Resolution </a:t>
            </a: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O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143000"/>
            <a:ext cx="70866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9588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91440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1991880"/>
            <a:ext cx="373392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cussion or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E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ue process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te compl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62720" y="653724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3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8600" y="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Outer Space </a:t>
            </a: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17524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iscipline </a:t>
            </a:r>
            <a:r>
              <a:rPr b="0" lang="en-US" sz="3600" spc="-1" strike="noStrike">
                <a:solidFill>
                  <a:srgbClr val="000099"/>
                </a:solidFill>
                <a:latin typeface="BrushFlair"/>
              </a:rPr>
              <a:t>P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143000"/>
            <a:ext cx="83818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588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91440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2511360"/>
            <a:ext cx="350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e into pla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en a student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disability viola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school code of student con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d is subjec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ciplinar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767400" cy="48769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6400800" y="647712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029200" y="5029200"/>
            <a:ext cx="36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oundup Ti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174920" cy="6324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42" name=""/>
          <p:cNvSpPr/>
          <p:nvPr/>
        </p:nvSpPr>
        <p:spPr>
          <a:xfrm>
            <a:off x="5562720" y="624852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is module looks at</a:t>
            </a:r>
            <a:r>
              <a:rPr b="0" lang="en-US" sz="4800" spc="-1" strike="noStrike">
                <a:solidFill>
                  <a:srgbClr val="000099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74320" indent="-274320">
              <a:lnSpc>
                <a:spcPct val="8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no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other concep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f op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solving disp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f discipline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600200"/>
            <a:ext cx="4114800" cy="44956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257800" y="5181480"/>
            <a:ext cx="2819520" cy="457200"/>
            <a:chOff x="5257800" y="5181480"/>
            <a:chExt cx="2819520" cy="457200"/>
          </a:xfrm>
        </p:grpSpPr>
        <p:sp>
          <p:nvSpPr>
            <p:cNvPr id="58" name=""/>
            <p:cNvSpPr/>
            <p:nvPr/>
          </p:nvSpPr>
          <p:spPr>
            <a:xfrm>
              <a:off x="5257800" y="5181480"/>
              <a:ext cx="2819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10080" y="5410080"/>
              <a:ext cx="2590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38680" y="5638680"/>
              <a:ext cx="22860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257800" y="4495680"/>
            <a:ext cx="2819520" cy="457200"/>
            <a:chOff x="5257800" y="4495680"/>
            <a:chExt cx="2819520" cy="457200"/>
          </a:xfrm>
        </p:grpSpPr>
        <p:sp>
          <p:nvSpPr>
            <p:cNvPr id="62" name=""/>
            <p:cNvSpPr/>
            <p:nvPr/>
          </p:nvSpPr>
          <p:spPr>
            <a:xfrm flipH="1">
              <a:off x="5257800" y="4952880"/>
              <a:ext cx="2819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334120" y="4724280"/>
              <a:ext cx="2590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410440" y="4495680"/>
              <a:ext cx="22860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798720" cy="23256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410080" y="62485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-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C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loser Look at Parent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762120"/>
            <a:ext cx="739152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14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1789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rebuchet MS"/>
              </a:rPr>
              <a:t>Access to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educational rec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3735360"/>
            <a:ext cx="4800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8040" indent="-338040">
              <a:lnSpc>
                <a:spcPct val="100000"/>
              </a:lnSpc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child’s identification, evaluation, and educational placement;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vision of FAP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ir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2057400"/>
            <a:ext cx="4876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ents must have opportunity to inspect and review all education records related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989440" cy="44956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2989440" cy="44956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4" name=""/>
          <p:cNvSpPr/>
          <p:nvPr/>
        </p:nvSpPr>
        <p:spPr>
          <a:xfrm>
            <a:off x="3962520" y="2133720"/>
            <a:ext cx="4876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right to inspect and review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949120"/>
            <a:ext cx="48006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8040" indent="-338040">
              <a:lnSpc>
                <a:spcPct val="100000"/>
              </a:lnSpc>
              <a:spcAft>
                <a:spcPts val="751"/>
              </a:spcAft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ght to a response from the school to the parents’ reasonable request for explanations and interpretations of the recor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Aft>
                <a:spcPts val="751"/>
              </a:spcAft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ght to request copies of record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Aft>
                <a:spcPts val="751"/>
              </a:spcAft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ght to have a representative inspect and review th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85800" y="1600200"/>
            <a:ext cx="3046320" cy="45720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33520" y="1523880"/>
            <a:ext cx="3138480" cy="472464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" name=""/>
          <p:cNvSpPr/>
          <p:nvPr/>
        </p:nvSpPr>
        <p:spPr>
          <a:xfrm>
            <a:off x="914400" y="63244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C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loser Look at Parent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9907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17220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rebuchet MS"/>
              </a:rPr>
              <a:t>Conten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of educational rec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211480"/>
            <a:ext cx="40388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8040" indent="-338040">
              <a:lnSpc>
                <a:spcPct val="100000"/>
              </a:lnSpc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est that their child’s records be amended;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ach their explanation to their child’s records if not ame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920"/>
            <a:ext cx="487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ents have the right 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0199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2892240" cy="43434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181480" y="1219320"/>
            <a:ext cx="3170520" cy="4343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5638680" y="563868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C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loser Look at Parent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990720"/>
            <a:ext cx="739152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719800"/>
            <a:ext cx="41907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8040" indent="-338040">
              <a:lnSpc>
                <a:spcPct val="100000"/>
              </a:lnSpc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, evaluation, and educational placement of their child;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vision of FAP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ir child, including IEP mee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2193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ents have the 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right to participate in meeting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related to t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702240" cy="44956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5334120" y="6477120"/>
            <a:ext cx="3429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371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ents are 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member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279520"/>
            <a:ext cx="4343400" cy="31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8040" indent="-338040">
              <a:lnSpc>
                <a:spcPct val="100000"/>
              </a:lnSpc>
              <a:spcAft>
                <a:spcPts val="1463"/>
              </a:spcAft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oup that determines whether their child is a “child with a disabilit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Aft>
                <a:spcPts val="1463"/>
              </a:spcAft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EP Team of their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Aft>
                <a:spcPts val="1349"/>
              </a:spcAft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group that makes educational placement decisions for thei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86400" y="1752480"/>
            <a:ext cx="3040200" cy="45720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33520" y="1371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agencies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8520"/>
            <a:ext cx="4419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8040" indent="-338040">
              <a:lnSpc>
                <a:spcPct val="100000"/>
              </a:lnSpc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parents with appropriate notice of a me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ther methods to ensure parent participation in IEP meetings and placement mee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486400" y="1676520"/>
            <a:ext cx="3090960" cy="4647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5867280" y="646128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C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loser Look at Parent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06668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190512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39600" indent="-3960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rly enough to ensure par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opportunity to at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-3960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nclude the purpose, time,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the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-3960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nclude who will attend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-3960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tell parents they may invi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with knowledge or speci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tise about the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-3960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nclude certain early childhoo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information, if appropri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1430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rebuchet MS"/>
              </a:rPr>
              <a:t>Appropriate Notice of Meetings of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887560" cy="43434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2938680" cy="44197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33520" y="1981080"/>
            <a:ext cx="2639880" cy="39625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2786040" cy="419076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80880" y="1905120"/>
            <a:ext cx="2908440" cy="419076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685800" y="64008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819520"/>
            <a:ext cx="5486400" cy="3733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W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itten No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9907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or written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925"/>
              </a:spcBef>
              <a:buClr>
                <a:srgbClr val="a50021"/>
              </a:buClr>
              <a:buSzPct val="8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cedural safeguards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5181840" cy="34527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04920" y="2666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4520" y="2666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943240" y="4572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655308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828800"/>
            <a:ext cx="853416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W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itten No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9907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219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model form f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0574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xotc350 Bd BT"/>
              </a:rPr>
              <a:t>Prior Written Notice Under Part B of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5909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64771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8954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10240" indent="-210240">
              <a:lnSpc>
                <a:spcPct val="8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 of the action that the school district proposes or refuses to 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3440" y="5638680"/>
            <a:ext cx="64771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876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195120" indent="-195120">
              <a:lnSpc>
                <a:spcPct val="8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planation of why the school district is proposing or refusing to take that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632448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29:01Z</dcterms:created>
  <dc:creator>Lisa Kupper</dc:creator>
  <dc:description/>
  <dc:language>en-US</dc:language>
  <cp:lastModifiedBy>Lisa Küpper</cp:lastModifiedBy>
  <dcterms:modified xsi:type="dcterms:W3CDTF">2007-08-20T18:29:09Z</dcterms:modified>
  <cp:revision>320</cp:revision>
  <dc:subject/>
  <dc:title>History of IDEA</dc:title>
</cp:coreProperties>
</file>