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4AE-2C7A-4A05-857A-AD5BF22C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0FD-3900-4A1C-9D7A-4057B44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B9E-86CF-4B9A-85F1-50422B15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019-20DE-4CEE-B6BA-6EF69E63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E03-064D-4C55-BF62-45ABD5F1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1E3-E40F-4741-8F53-ACB6B29D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68E-F44C-44E8-A0DA-D79F206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519-6F4F-465A-8178-DD3C6770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B8E-7E70-42F3-8DD3-C9EB7521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BBB-9099-4D63-A594-6224DD41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2C4-F1AF-4453-B0FD-DFD1AE87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627-43D5-4B88-A9BE-6E6327B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8C67-A2BF-4FE4-8448-5C66091C8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09680"/>
            <a:ext cx="5333760" cy="36576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4640" y="1599840"/>
            <a:ext cx="3429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O</a:t>
            </a: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ptions</a:t>
            </a:r>
            <a:r>
              <a:rPr b="0" lang="en-US" sz="4000" spc="-1" strike="noStrike">
                <a:solidFill>
                  <a:srgbClr val="000099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for Dispute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48520"/>
            <a:ext cx="838188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1143000"/>
            <a:ext cx="1752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Chasm"/>
              </a:rPr>
              <a:t>IDEA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5052960" cy="336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3600" y="1981080"/>
            <a:ext cx="0" cy="190512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560" y="1981080"/>
            <a:ext cx="563868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943240" y="3886200"/>
            <a:ext cx="289548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019920" y="4266720"/>
            <a:ext cx="2666880" cy="1600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705720" y="4571640"/>
            <a:ext cx="1828800" cy="10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63244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152280"/>
            <a:ext cx="8686800" cy="65106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8800" y="1295280"/>
            <a:ext cx="7826400" cy="52117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838080" y="380880"/>
            <a:ext cx="3962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rushFlair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rain on overlo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3808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rushFlair"/>
              </a:rPr>
              <a:t>T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ime to downl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0040" y="1295280"/>
            <a:ext cx="8142480" cy="5222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5181480" y="4038480"/>
            <a:ext cx="3733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rushFlair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nd stretch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a b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42880" y="304920"/>
            <a:ext cx="8056080" cy="6248160"/>
            <a:chOff x="542880" y="304920"/>
            <a:chExt cx="8056080" cy="6248160"/>
          </a:xfrm>
        </p:grpSpPr>
        <p:sp>
          <p:nvSpPr>
            <p:cNvPr id="126" name=""/>
            <p:cNvSpPr/>
            <p:nvPr/>
          </p:nvSpPr>
          <p:spPr>
            <a:xfrm>
              <a:off x="4636800" y="4038480"/>
              <a:ext cx="39621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cc"/>
                  </a:solidFill>
                  <a:latin typeface="BrushFlair"/>
                </a:rPr>
                <a:t>H</a:t>
              </a:r>
              <a:r>
                <a:rPr b="0" lang="en-US" sz="3200" spc="-1" strike="noStrike">
                  <a:solidFill>
                    <a:srgbClr val="ffffcc"/>
                  </a:solidFill>
                  <a:latin typeface="Trebuchet MS"/>
                </a:rPr>
                <a:t>ow ‘bout we stand up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542880" y="304920"/>
              <a:ext cx="4093920" cy="624816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</p:grp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4632480" cy="6324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572000" y="228600"/>
            <a:ext cx="0" cy="63244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429000"/>
            <a:ext cx="8458200" cy="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4202280" cy="6248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4724280" y="228600"/>
            <a:ext cx="4124520" cy="62485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2743200" y="3581280"/>
            <a:ext cx="4064040" cy="30736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2743200" y="1523880"/>
            <a:ext cx="3886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nd sit back down, refre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32448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57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R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ach for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39167 0 E">
                                      <p:cBhvr>
                                        <p:cTn id="27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0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3000"/>
                            </p:stCondLst>
                            <p:childTnLst>
                              <p:par>
                                <p:cTn id="320" nodeType="after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7000"/>
                            </p:stCondLst>
                            <p:childTnLst>
                              <p:par>
                                <p:cTn id="326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8000"/>
                            </p:stCondLst>
                            <p:childTnLst>
                              <p:par>
                                <p:cTn id="33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5000"/>
                            </p:stCondLst>
                            <p:childTnLst>
                              <p:par>
                                <p:cTn id="358" nodeType="after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" presetSubtype="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3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447920"/>
            <a:ext cx="4572000" cy="3124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e Process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143000"/>
            <a:ext cx="7467840" cy="58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a d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cess compl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o may fil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e there ti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m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nform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st be inclu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f it’s </a:t>
            </a:r>
            <a:r>
              <a:rPr b="0" lang="en-US" sz="2800" spc="-1" strike="noStrike">
                <a:solidFill>
                  <a:srgbClr val="a50021"/>
                </a:solidFill>
                <a:latin typeface="Trebuchet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inclu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 does an LEA respo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216680" cy="28036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191120" cy="2787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95680" y="1600200"/>
            <a:ext cx="4292640" cy="285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495680" y="1600200"/>
            <a:ext cx="4292640" cy="28591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470480" y="1600200"/>
            <a:ext cx="4292640" cy="28544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495680" y="1600200"/>
            <a:ext cx="4267440" cy="28386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952880" y="47242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R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solu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1295280"/>
            <a:ext cx="36576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A’s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m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forcement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ritten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962520" cy="263196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26352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4114800" cy="273996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57200" y="3352680"/>
            <a:ext cx="4114800" cy="273528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57200" y="3886200"/>
            <a:ext cx="4114800" cy="27367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6" name=""/>
          <p:cNvSpPr/>
          <p:nvPr/>
        </p:nvSpPr>
        <p:spPr>
          <a:xfrm>
            <a:off x="838080" y="63244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2274840"/>
            <a:ext cx="6095880" cy="4159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e Process Hea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066680"/>
            <a:ext cx="79246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523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happens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2460600"/>
            <a:ext cx="5810400" cy="3863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6400800" y="36576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e the timel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238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rights do the partie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6477120"/>
            <a:ext cx="342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1143000"/>
            <a:ext cx="3733920" cy="54100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e Process Hea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990720"/>
            <a:ext cx="79246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38862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alifications of Hearing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413160" cy="51055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609480" y="60958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e Process Hea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990720"/>
            <a:ext cx="79246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819520" y="2362320"/>
            <a:ext cx="6095880" cy="4190760"/>
            <a:chOff x="2819520" y="2362320"/>
            <a:chExt cx="6095880" cy="4190760"/>
          </a:xfrm>
        </p:grpSpPr>
        <p:sp>
          <p:nvSpPr>
            <p:cNvPr id="174" name=""/>
            <p:cNvSpPr/>
            <p:nvPr/>
          </p:nvSpPr>
          <p:spPr>
            <a:xfrm>
              <a:off x="2819520" y="2362320"/>
              <a:ext cx="6095880" cy="41907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3505320" y="2971800"/>
              <a:ext cx="5130720" cy="341784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sp>
          <p:nvSpPr>
            <p:cNvPr id="176" name=""/>
            <p:cNvSpPr/>
            <p:nvPr/>
          </p:nvSpPr>
          <p:spPr>
            <a:xfrm>
              <a:off x="3276720" y="3200400"/>
              <a:ext cx="0" cy="2895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2819520"/>
              <a:ext cx="0" cy="34290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2743200"/>
              <a:ext cx="44956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52680" y="2514600"/>
              <a:ext cx="51818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876920" y="2819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andard for Hearing Officer’s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505320"/>
            <a:ext cx="1828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ealing a Hearing Officer’s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143000"/>
            <a:ext cx="3809880" cy="5562720"/>
            <a:chOff x="457200" y="1143000"/>
            <a:chExt cx="3809880" cy="5562720"/>
          </a:xfrm>
        </p:grpSpPr>
        <p:sp>
          <p:nvSpPr>
            <p:cNvPr id="183" name=""/>
            <p:cNvSpPr/>
            <p:nvPr/>
          </p:nvSpPr>
          <p:spPr>
            <a:xfrm>
              <a:off x="457200" y="1143000"/>
              <a:ext cx="3809880" cy="5562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3630600" cy="5410080"/>
            </a:xfrm>
            <a:prstGeom prst="rect">
              <a:avLst/>
            </a:prstGeom>
            <a:ln w="9360">
              <a:solidFill>
                <a:srgbClr val="ffcc00"/>
              </a:solidFill>
              <a:miter/>
            </a:ln>
          </p:spPr>
        </p:pic>
      </p:grpSp>
      <p:sp>
        <p:nvSpPr>
          <p:cNvPr id="185" name=""/>
          <p:cNvSpPr/>
          <p:nvPr/>
        </p:nvSpPr>
        <p:spPr>
          <a:xfrm>
            <a:off x="609480" y="6248520"/>
            <a:ext cx="342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4416 E">
                                      <p:cBhvr>
                                        <p:cTn id="57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1828800"/>
            <a:ext cx="5257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44880" y="990720"/>
            <a:ext cx="4114800" cy="5486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68580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torneys’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3829320" cy="51055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52578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1295280"/>
            <a:ext cx="5257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533520"/>
            <a:ext cx="3809880" cy="5486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4572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36232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the </a:t>
            </a:r>
            <a:r>
              <a:rPr b="0" lang="en-US" sz="2800" spc="-1" strike="noStrike">
                <a:solidFill>
                  <a:srgbClr val="a50021"/>
                </a:solidFill>
                <a:latin typeface="Trebuchet MS"/>
              </a:rPr>
              <a:t>child’s placemen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until completion of the due process proceed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235480" y="685800"/>
            <a:ext cx="3451320" cy="5181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5257800" y="60958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52578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pecial Rules for Due Process Hearings in Disciplinary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3260880" cy="48769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2" name=""/>
          <p:cNvSpPr/>
          <p:nvPr/>
        </p:nvSpPr>
        <p:spPr>
          <a:xfrm>
            <a:off x="4267080" y="48006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295280"/>
            <a:ext cx="2895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ne More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206960" cy="63244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35473" t="0" r="24360" b="0"/>
          <a:stretch/>
        </p:blipFill>
        <p:spPr>
          <a:xfrm>
            <a:off x="4572000" y="304920"/>
            <a:ext cx="3814920" cy="63244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07960" y="1219320"/>
            <a:ext cx="8128080" cy="541476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07960" y="1219320"/>
            <a:ext cx="8128080" cy="5414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380880" y="1295280"/>
            <a:ext cx="373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When a Child with a Disability is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nilaterally Placed at a Private School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098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and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486400"/>
            <a:ext cx="3314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uition Reimbursement is at Issue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6248520"/>
            <a:ext cx="342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8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1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8500"/>
                            </p:stCondLst>
                            <p:childTnLst>
                              <p:par>
                                <p:cTn id="6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41064 E">
                                      <p:cBhvr>
                                        <p:cTn id="65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5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66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4650"/>
                            </p:stCondLst>
                            <p:childTnLst>
                              <p:par>
                                <p:cTn id="67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125 0 E">
                                      <p:cBhvr>
                                        <p:cTn id="671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665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rushFlair"/>
              </a:rPr>
              <a:t>F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miliar Approaches to Resolving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962520" cy="263844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2857320" cy="381024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2136240" y="4168800"/>
            <a:ext cx="6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rushFlair"/>
              </a:rPr>
              <a:t>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5640" y="1600200"/>
            <a:ext cx="6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rushFlair"/>
              </a:rPr>
              <a:t>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324480"/>
            <a:ext cx="289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914400"/>
            <a:ext cx="1828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666880" y="228600"/>
            <a:ext cx="36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oundup Ti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838080"/>
            <a:ext cx="1828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83876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8" name=""/>
          <p:cNvSpPr/>
          <p:nvPr/>
        </p:nvSpPr>
        <p:spPr>
          <a:xfrm>
            <a:off x="1981080" y="6553080"/>
            <a:ext cx="5486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4724280" cy="317196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108600" cy="45720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"/>
          <p:cNvSpPr/>
          <p:nvPr/>
        </p:nvSpPr>
        <p:spPr>
          <a:xfrm>
            <a:off x="3965040" y="1371600"/>
            <a:ext cx="6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rushFlair"/>
              </a:rPr>
              <a:t>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42320" y="2438280"/>
            <a:ext cx="6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rushFlair"/>
              </a:rPr>
              <a:t>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How About</a:t>
            </a:r>
            <a:r>
              <a:rPr b="0" lang="en-US" sz="44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BrushFlair"/>
              </a:rPr>
              <a:t>T</a:t>
            </a: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6248520"/>
            <a:ext cx="342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is module looks at</a:t>
            </a:r>
            <a:r>
              <a:rPr b="0" lang="en-US" sz="4800" spc="-1" strike="noStrike">
                <a:solidFill>
                  <a:srgbClr val="000099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’s options for dispute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533520"/>
            <a:ext cx="3284640" cy="44956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486400" y="4191120"/>
            <a:ext cx="2819520" cy="457200"/>
            <a:chOff x="5486400" y="4191120"/>
            <a:chExt cx="2819520" cy="457200"/>
          </a:xfrm>
        </p:grpSpPr>
        <p:sp>
          <p:nvSpPr>
            <p:cNvPr id="71" name=""/>
            <p:cNvSpPr/>
            <p:nvPr/>
          </p:nvSpPr>
          <p:spPr>
            <a:xfrm>
              <a:off x="5486400" y="4191120"/>
              <a:ext cx="2819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38680" y="4419720"/>
              <a:ext cx="2590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4648320"/>
              <a:ext cx="22860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86400" y="3505320"/>
            <a:ext cx="2819520" cy="457200"/>
            <a:chOff x="5486400" y="3505320"/>
            <a:chExt cx="2819520" cy="457200"/>
          </a:xfrm>
        </p:grpSpPr>
        <p:sp>
          <p:nvSpPr>
            <p:cNvPr id="75" name=""/>
            <p:cNvSpPr/>
            <p:nvPr/>
          </p:nvSpPr>
          <p:spPr>
            <a:xfrm flipH="1">
              <a:off x="5486400" y="3962520"/>
              <a:ext cx="2819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562720" y="3733920"/>
              <a:ext cx="2590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639040" y="3505320"/>
              <a:ext cx="22860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2895840" cy="22910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33520" y="1905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29040" indent="-329040">
              <a:lnSpc>
                <a:spcPct val="100000"/>
              </a:lnSpc>
              <a:spcBef>
                <a:spcPts val="1137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l appro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37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te compl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37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37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process compl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37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lution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37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process hea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37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pedited due process hearing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disciplinary sit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37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hea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5105520"/>
            <a:ext cx="342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257800" y="990720"/>
            <a:ext cx="343044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P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ocedural Safeguards No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447920"/>
            <a:ext cx="4495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omprehensive written explanation of procedural safeguards available to parents of a child with a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rovided to parents once per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also be given to parents under specif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410080" y="1143000"/>
            <a:ext cx="3192480" cy="49021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257800" y="6248520"/>
            <a:ext cx="342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1905120"/>
            <a:ext cx="6934320" cy="4495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xamples of </a:t>
            </a: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nformal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9907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21932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25360" indent="-225360">
              <a:lnSpc>
                <a:spcPct val="100000"/>
              </a:lnSpc>
              <a:spcBef>
                <a:spcPts val="220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P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6095880" cy="4044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34120" y="6477120"/>
            <a:ext cx="3276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81080" y="1828800"/>
            <a:ext cx="6705720" cy="45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xamples of </a:t>
            </a: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nformal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990720"/>
            <a:ext cx="83059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0666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25360" indent="-225360">
              <a:lnSpc>
                <a:spcPct val="100000"/>
              </a:lnSpc>
              <a:spcBef>
                <a:spcPts val="220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P Facil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6400800" cy="428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5257800" y="6477120"/>
            <a:ext cx="342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52880" y="914400"/>
            <a:ext cx="3581640" cy="52578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ate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21932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47920"/>
            <a:ext cx="7467840" cy="55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ate compl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o may fil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nform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st be inclu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are the SEA’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cedures for handl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compl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e there time lim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402000" cy="510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402000" cy="510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29200" y="990720"/>
            <a:ext cx="3400560" cy="510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29200" y="990720"/>
            <a:ext cx="3390840" cy="510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029200" y="1143000"/>
            <a:ext cx="3425760" cy="47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952880" y="632448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21932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512720"/>
            <a:ext cx="7467480" cy="54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A’s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fidentiality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forcement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written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3799080" cy="57150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3795840" cy="57150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3784680" cy="472428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495680" y="533520"/>
            <a:ext cx="3800520" cy="57150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609480"/>
            <a:ext cx="3537000" cy="426744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6"/>
          <a:srcRect l="0" t="0" r="25388" b="0"/>
          <a:stretch/>
        </p:blipFill>
        <p:spPr>
          <a:xfrm>
            <a:off x="4572000" y="304920"/>
            <a:ext cx="3697200" cy="59436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5867280" y="6400800"/>
            <a:ext cx="2514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417 -2.60116E-006 L -0.57917 -2.60116E-006 E">
                                      <p:cBhvr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8:35:54Z</dcterms:created>
  <dc:creator>Lisa Kupper</dc:creator>
  <dc:description/>
  <dc:language>en-US</dc:language>
  <cp:lastModifiedBy>REBHORN</cp:lastModifiedBy>
  <dcterms:modified xsi:type="dcterms:W3CDTF">2008-03-07T18:35:55Z</dcterms:modified>
  <cp:revision>248</cp:revision>
  <dc:subject/>
  <dc:title>History of IDEA</dc:title>
</cp:coreProperties>
</file>