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70F-ABF1-404B-BF1C-37BEF3EE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8E0-FD49-4DEE-B6BA-12DE4D0A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C64-BBD2-4179-82E5-0A8B2646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4D6-EBB9-4B97-B859-9B4E9101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9DF-9904-4781-B299-EF26CC7C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E46-680F-4958-B0CD-1832690B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45F-8B76-484A-8E84-96315D68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67B-B686-4435-AD75-B092D246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738-EFFD-4577-BAA6-149F327C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4D1-E553-4BC8-9B4F-DBD4E97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CBE-07DE-423B-BA11-A87885C2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BF1-4691-48B9-9F45-C30E5A7E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6104-84FF-4D36-8275-D013215CE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00600" y="2742840"/>
            <a:ext cx="4114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rebuchet MS"/>
              </a:rPr>
              <a:t>Key Issues in Discip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Chasm"/>
              </a:rPr>
              <a:t>The 2004 Amendments to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3444840" cy="518184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838080" y="63244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497040" cy="525780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9" name=""/>
          <p:cNvSpPr/>
          <p:nvPr/>
        </p:nvSpPr>
        <p:spPr>
          <a:xfrm>
            <a:off x="380880" y="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thority of School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1371600"/>
            <a:ext cx="40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pecial Circums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4572000" cy="150840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13" name=""/>
          <p:cNvGrpSpPr/>
          <p:nvPr/>
        </p:nvGrpSpPr>
        <p:grpSpPr>
          <a:xfrm>
            <a:off x="762120" y="3352680"/>
            <a:ext cx="4038480" cy="2895840"/>
            <a:chOff x="762120" y="3352680"/>
            <a:chExt cx="4038480" cy="2895840"/>
          </a:xfrm>
        </p:grpSpPr>
        <p:sp>
          <p:nvSpPr>
            <p:cNvPr id="114" name=""/>
            <p:cNvSpPr/>
            <p:nvPr/>
          </p:nvSpPr>
          <p:spPr>
            <a:xfrm>
              <a:off x="762120" y="3352680"/>
              <a:ext cx="4038480" cy="28958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838080" y="3429000"/>
              <a:ext cx="3911760" cy="27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1295280" y="6400800"/>
            <a:ext cx="3276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127720" cy="529272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914400" y="8380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M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ifestation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447920"/>
            <a:ext cx="9907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5867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w Standards 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43800" y="1523880"/>
            <a:ext cx="9907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25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25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M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ifestation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99072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447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f </a:t>
            </a: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Yes</a:t>
            </a:r>
            <a:r>
              <a:rPr b="0" lang="en-US" sz="2400" spc="-1" strike="noStrike">
                <a:solidFill>
                  <a:srgbClr val="a50021"/>
                </a:solidFill>
                <a:latin typeface="BrushFlair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410080" y="1257480"/>
            <a:ext cx="3040200" cy="4343400"/>
            <a:chOff x="5410080" y="1257480"/>
            <a:chExt cx="3040200" cy="4343400"/>
          </a:xfrm>
        </p:grpSpPr>
        <p:sp>
          <p:nvSpPr>
            <p:cNvPr id="126" name=""/>
            <p:cNvSpPr/>
            <p:nvPr/>
          </p:nvSpPr>
          <p:spPr>
            <a:xfrm>
              <a:off x="5410080" y="1257480"/>
              <a:ext cx="3040200" cy="43434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5554440" y="1401840"/>
              <a:ext cx="2756520" cy="405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1143000" y="2209680"/>
            <a:ext cx="3200400" cy="4114800"/>
            <a:chOff x="1143000" y="2209680"/>
            <a:chExt cx="3200400" cy="4114800"/>
          </a:xfrm>
        </p:grpSpPr>
        <p:sp>
          <p:nvSpPr>
            <p:cNvPr id="129" name=""/>
            <p:cNvSpPr/>
            <p:nvPr/>
          </p:nvSpPr>
          <p:spPr>
            <a:xfrm>
              <a:off x="1143000" y="2209680"/>
              <a:ext cx="3200400" cy="41148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1295280" y="2362320"/>
              <a:ext cx="2914920" cy="388620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sp>
        <p:nvSpPr>
          <p:cNvPr id="131" name=""/>
          <p:cNvSpPr/>
          <p:nvPr/>
        </p:nvSpPr>
        <p:spPr>
          <a:xfrm>
            <a:off x="1066680" y="6400800"/>
            <a:ext cx="3276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M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anifestation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9907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295280"/>
            <a:ext cx="84582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</a:t>
            </a:r>
            <a:r>
              <a:rPr b="0" lang="en-US" sz="2600" spc="-1" strike="noStrike">
                <a:solidFill>
                  <a:srgbClr val="a50021"/>
                </a:solidFill>
                <a:latin typeface="Trebuchet MS"/>
              </a:rPr>
              <a:t>No</a:t>
            </a:r>
            <a:r>
              <a:rPr b="0" lang="en-US" sz="3200" spc="-1" strike="noStrike">
                <a:solidFill>
                  <a:srgbClr val="a50021"/>
                </a:solidFill>
                <a:latin typeface="BrushFlair"/>
              </a:rPr>
              <a:t>–</a:t>
            </a:r>
            <a:r>
              <a:rPr b="0" lang="en-US" sz="2600" spc="-1" strike="noStrike">
                <a:solidFill>
                  <a:srgbClr val="a50021"/>
                </a:solidFill>
                <a:latin typeface="Trebuchet MS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termination is that behavi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 manife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51055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666880"/>
            <a:ext cx="7086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ild is disciplined in the same manner and for the same length of time</a:t>
            </a:r>
            <a:r>
              <a:rPr b="0" lang="en-US" sz="2600" spc="-1" strike="noStrike">
                <a:solidFill>
                  <a:srgbClr val="a50021"/>
                </a:solidFill>
                <a:latin typeface="Trebuchet MS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as a child without disabilities would be disciplined except that services provisions app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1814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continues to receive services as describ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300.530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6477120"/>
            <a:ext cx="3276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276720"/>
            <a:ext cx="838188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8600"/>
            <a:ext cx="0" cy="61722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064040" cy="2703600"/>
          </a:xfrm>
          <a:prstGeom prst="rect">
            <a:avLst/>
          </a:prstGeom>
          <a:ln w="9360">
            <a:solidFill>
              <a:srgbClr val="ffcc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800600" y="3581280"/>
            <a:ext cx="4038480" cy="269568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04920" y="3581280"/>
            <a:ext cx="4038480" cy="268632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876920" y="366840"/>
            <a:ext cx="4038480" cy="2681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5" name=""/>
          <p:cNvSpPr/>
          <p:nvPr/>
        </p:nvSpPr>
        <p:spPr>
          <a:xfrm>
            <a:off x="2971800" y="6553080"/>
            <a:ext cx="32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7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43080" y="-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hen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Services Are Required Under §300.530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762120"/>
            <a:ext cx="83822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3276360" cy="206388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638680" y="1295280"/>
            <a:ext cx="3200400" cy="21034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"/>
          <p:cNvSpPr/>
          <p:nvPr/>
        </p:nvSpPr>
        <p:spPr>
          <a:xfrm>
            <a:off x="457200" y="3581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is the services determination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35053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ere will the child receive those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114800" y="3809880"/>
            <a:ext cx="1938240" cy="28195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3" name=""/>
          <p:cNvSpPr/>
          <p:nvPr/>
        </p:nvSpPr>
        <p:spPr>
          <a:xfrm>
            <a:off x="6095880" y="5943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o deci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6400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380880" y="990720"/>
            <a:ext cx="8534520" cy="567504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6" name=""/>
          <p:cNvSpPr/>
          <p:nvPr/>
        </p:nvSpPr>
        <p:spPr>
          <a:xfrm>
            <a:off x="457200" y="6400800"/>
            <a:ext cx="3276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914400"/>
            <a:ext cx="4038480" cy="57913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-152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pp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83808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1219320"/>
            <a:ext cx="40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questing an appeal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3670200" cy="56386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4876920" y="2895480"/>
            <a:ext cx="403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, not that kin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f peel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4648320"/>
            <a:ext cx="396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es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kin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3756240" cy="56386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5334120" y="6553080"/>
            <a:ext cx="2743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267080" y="1066680"/>
            <a:ext cx="4648320" cy="548640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ppeals: Authority of Hearing Off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9907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733920"/>
            <a:ext cx="3581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aring offic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kes determination on the appeal on an expedited bas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565440" cy="5334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4952880" y="1447920"/>
            <a:ext cx="0" cy="4724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1676520"/>
            <a:ext cx="0" cy="4343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6553080"/>
            <a:ext cx="3657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C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hild’s Placement During App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990720"/>
            <a:ext cx="66294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114800" y="1143000"/>
            <a:ext cx="4382640" cy="5333760"/>
            <a:chOff x="4114800" y="1143000"/>
            <a:chExt cx="4382640" cy="5333760"/>
          </a:xfrm>
        </p:grpSpPr>
        <p:sp>
          <p:nvSpPr>
            <p:cNvPr id="177" name=""/>
            <p:cNvSpPr/>
            <p:nvPr/>
          </p:nvSpPr>
          <p:spPr>
            <a:xfrm>
              <a:off x="4114800" y="1143000"/>
              <a:ext cx="4382640" cy="5333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4352040" y="1379520"/>
              <a:ext cx="3891240" cy="485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304920" y="3733920"/>
            <a:ext cx="358128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e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r there?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6553080"/>
            <a:ext cx="32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200"/>
                            </p:stCondLst>
                            <p:childTnLst>
                              <p:par>
                                <p:cTn id="3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39280" cy="695484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2" name=""/>
          <p:cNvSpPr/>
          <p:nvPr/>
        </p:nvSpPr>
        <p:spPr>
          <a:xfrm>
            <a:off x="4191120" y="5029200"/>
            <a:ext cx="5333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Basis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of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129528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rushFlair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rotections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rebuchet MS"/>
              </a:rPr>
              <a:t>at §300.53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99200">
            <a:off x="6248160" y="274284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ailey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6477120"/>
            <a:ext cx="25909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is module looks at</a:t>
            </a:r>
            <a:r>
              <a:rPr b="0" lang="en-US" sz="4800" spc="-1" strike="noStrike">
                <a:solidFill>
                  <a:srgbClr val="000099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496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1925"/>
              </a:spcBef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f discipline provisions in 2004 Amendments to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spcBef>
                <a:spcPts val="1925"/>
              </a:spcBef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retained, what’s expanded, what’s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spcBef>
                <a:spcPts val="1925"/>
              </a:spcBef>
              <a:buClr>
                <a:srgbClr val="a50021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45820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1143000"/>
            <a:ext cx="3284640" cy="44956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57800" y="1219320"/>
            <a:ext cx="3149640" cy="26254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486400" y="4800600"/>
            <a:ext cx="2819520" cy="457200"/>
            <a:chOff x="5486400" y="4800600"/>
            <a:chExt cx="2819520" cy="457200"/>
          </a:xfrm>
        </p:grpSpPr>
        <p:sp>
          <p:nvSpPr>
            <p:cNvPr id="52" name=""/>
            <p:cNvSpPr/>
            <p:nvPr/>
          </p:nvSpPr>
          <p:spPr>
            <a:xfrm>
              <a:off x="5486400" y="4800600"/>
              <a:ext cx="28195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38680" y="5029200"/>
              <a:ext cx="25909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67280" y="5257800"/>
              <a:ext cx="22860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486400" y="4114800"/>
            <a:ext cx="2819520" cy="457200"/>
            <a:chOff x="5486400" y="4114800"/>
            <a:chExt cx="2819520" cy="457200"/>
          </a:xfrm>
        </p:grpSpPr>
        <p:sp>
          <p:nvSpPr>
            <p:cNvPr id="56" name=""/>
            <p:cNvSpPr/>
            <p:nvPr/>
          </p:nvSpPr>
          <p:spPr>
            <a:xfrm flipH="1">
              <a:off x="5486400" y="4572000"/>
              <a:ext cx="28195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562720" y="4343400"/>
              <a:ext cx="25909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639040" y="4114800"/>
              <a:ext cx="22860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181480" y="5791320"/>
            <a:ext cx="3276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152280"/>
            <a:ext cx="335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F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inal A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295280"/>
            <a:ext cx="5257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828800"/>
            <a:ext cx="3276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porting crimes committe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y children with dis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609480"/>
            <a:ext cx="3759120" cy="5639040"/>
          </a:xfrm>
          <a:prstGeom prst="rect">
            <a:avLst/>
          </a:prstGeom>
          <a:solidFill>
            <a:srgbClr val="000099"/>
          </a:solidFill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97560" y="990720"/>
            <a:ext cx="4035240" cy="510516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1" name=""/>
          <p:cNvSpPr/>
          <p:nvPr/>
        </p:nvSpPr>
        <p:spPr>
          <a:xfrm>
            <a:off x="5334120" y="640080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P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tting It All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9907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1792440" cy="44956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"/>
          <p:cNvSpPr/>
          <p:nvPr/>
        </p:nvSpPr>
        <p:spPr>
          <a:xfrm>
            <a:off x="2209680" y="1219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d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019920" y="1219320"/>
            <a:ext cx="2838240" cy="42670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7" name=""/>
          <p:cNvSpPr/>
          <p:nvPr/>
        </p:nvSpPr>
        <p:spPr>
          <a:xfrm>
            <a:off x="7162920" y="5638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rushFlair"/>
              </a:rPr>
              <a:t>L</a:t>
            </a: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iz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34290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har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819520" y="3962520"/>
            <a:ext cx="3733560" cy="2528640"/>
            <a:chOff x="2819520" y="3962520"/>
            <a:chExt cx="3733560" cy="2528640"/>
          </a:xfrm>
        </p:grpSpPr>
        <p:sp>
          <p:nvSpPr>
            <p:cNvPr id="200" name=""/>
            <p:cNvSpPr/>
            <p:nvPr/>
          </p:nvSpPr>
          <p:spPr>
            <a:xfrm>
              <a:off x="2819520" y="3962520"/>
              <a:ext cx="3733560" cy="25286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2879640" y="4022280"/>
              <a:ext cx="3612960" cy="240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5791320" y="1371600"/>
            <a:ext cx="0" cy="2286000"/>
          </a:xfrm>
          <a:prstGeom prst="line">
            <a:avLst/>
          </a:prstGeom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1676520"/>
            <a:ext cx="0" cy="1828800"/>
          </a:xfrm>
          <a:prstGeom prst="line">
            <a:avLst/>
          </a:prstGeom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3733920"/>
            <a:ext cx="6858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3581280"/>
            <a:ext cx="60948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19051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2057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553080"/>
            <a:ext cx="32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00"/>
                            </p:stCondLst>
                            <p:childTnLst>
                              <p:par>
                                <p:cTn id="3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300"/>
                            </p:stCondLst>
                            <p:childTnLst>
                              <p:par>
                                <p:cTn id="3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914400"/>
            <a:ext cx="1828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666880" y="228600"/>
            <a:ext cx="36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oundup Ti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838080"/>
            <a:ext cx="1828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7696080" cy="51753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5105520" y="624852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O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verview of IDEA’s Discipline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9907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2193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198000" indent="-198000">
              <a:lnSpc>
                <a:spcPct val="10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 of schoo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10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festation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10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10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 alternative educational setting (IA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10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10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’s placement during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10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ions for children not determined eligible for special education and relat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10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of placement because of disciplinary remov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100000"/>
              </a:lnSpc>
              <a:spcBef>
                <a:spcPts val="1650"/>
              </a:spcBef>
              <a:buClr>
                <a:srgbClr val="a50021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106668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-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thority of School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83808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0666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violates a code of student con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76240" y="1676520"/>
            <a:ext cx="7391520" cy="4924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876920" y="6324480"/>
            <a:ext cx="32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thority of School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9907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219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happens if the child violates a code of student conduct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666880" y="2362320"/>
            <a:ext cx="5943600" cy="4010040"/>
            <a:chOff x="2666880" y="2362320"/>
            <a:chExt cx="5943600" cy="4010040"/>
          </a:xfrm>
        </p:grpSpPr>
        <p:sp>
          <p:nvSpPr>
            <p:cNvPr id="73" name=""/>
            <p:cNvSpPr/>
            <p:nvPr/>
          </p:nvSpPr>
          <p:spPr>
            <a:xfrm>
              <a:off x="2666880" y="2362320"/>
              <a:ext cx="5943600" cy="40100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2810160" y="2505240"/>
              <a:ext cx="5656680" cy="376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5334120" y="640080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thority of School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219320"/>
            <a:ext cx="80010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33560" cy="370656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4445280" cy="2960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2666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And on the 11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 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257800"/>
            <a:ext cx="3276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1447920"/>
            <a:ext cx="8686800" cy="495288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efining “Change of Place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305920" cy="3133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19320" y="5029200"/>
            <a:ext cx="72388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5334120"/>
            <a:ext cx="6629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715000"/>
            <a:ext cx="6019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6019920"/>
            <a:ext cx="4876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6553080"/>
            <a:ext cx="32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295280"/>
            <a:ext cx="3352680" cy="4953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308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P</a:t>
            </a: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arent Notification Requirements: §300.530(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066680"/>
            <a:ext cx="78865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144504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On the 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which the decision is ma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a removal that constitu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nge of placement of a child with a disability because of a violation of a code of student conduc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41720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The LEA mu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y the parents of that decision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the parents the procedural safeguards no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3075120" cy="4647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9480" y="1447920"/>
            <a:ext cx="3095640" cy="464796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7" name=""/>
          <p:cNvSpPr/>
          <p:nvPr/>
        </p:nvSpPr>
        <p:spPr>
          <a:xfrm>
            <a:off x="457200" y="6324480"/>
            <a:ext cx="32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BrushFlair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uthority of School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3809880"/>
            <a:ext cx="236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880" indent="-2880"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ase-by-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1523880"/>
            <a:ext cx="27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w Author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1600200"/>
            <a:ext cx="5638680" cy="4487400"/>
            <a:chOff x="380880" y="1600200"/>
            <a:chExt cx="5638680" cy="4487400"/>
          </a:xfrm>
        </p:grpSpPr>
        <p:sp>
          <p:nvSpPr>
            <p:cNvPr id="103" name=""/>
            <p:cNvSpPr/>
            <p:nvPr/>
          </p:nvSpPr>
          <p:spPr>
            <a:xfrm>
              <a:off x="380880" y="1600200"/>
              <a:ext cx="5638680" cy="448740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96080" y="1715400"/>
              <a:ext cx="5408280" cy="424980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sp>
        <p:nvSpPr>
          <p:cNvPr id="105" name=""/>
          <p:cNvSpPr/>
          <p:nvPr/>
        </p:nvSpPr>
        <p:spPr>
          <a:xfrm>
            <a:off x="533520" y="4112280"/>
            <a:ext cx="535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hool personnel may consider any unique circumstances on a case-by-case basis in determining whether a change of placement is appropriate for a child with a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25200" y="617112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§300.530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219320"/>
            <a:ext cx="3276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oduced by NICHCY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167 -0.21092 E">
                                      <p:cBhvr>
                                        <p:cTn id="13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58:55Z</dcterms:created>
  <dc:creator>Lisa Kupper</dc:creator>
  <dc:description/>
  <dc:language>en-US</dc:language>
  <cp:lastModifiedBy>Kupper</cp:lastModifiedBy>
  <dcterms:modified xsi:type="dcterms:W3CDTF">2012-11-01T15:58:56Z</dcterms:modified>
  <cp:revision>203</cp:revision>
  <dc:subject/>
  <dc:title>History of IDEA</dc:title>
</cp:coreProperties>
</file>