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BDF-6C97-4BED-8168-DB337DFB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DB9-D586-4C41-A793-B69D4D3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E78-838D-4536-97A6-517CC095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6C7-71C5-4997-B23E-239DF537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AFA-4C1C-4395-9168-B686975D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612-DC59-49F0-92A5-8A2F052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12A-600D-4314-A309-60D8FCFB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6ED-4FC6-46F2-9E0B-05264AC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890-F3D7-43BB-B031-EB74058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FAE-64FF-4EE5-BC78-7EB6141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BE8-049D-4FF1-B6CF-7CF5B97B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0B3-8A0C-4345-8709-311EB63F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3A7-3287-41FB-8294-60AC6BDAF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34286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rushFlair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rebuchet MS"/>
              </a:rPr>
              <a:t>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541008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525780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rebuchet MS"/>
              </a:rPr>
              <a:t>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257800"/>
            <a:ext cx="83822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33498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380880" y="228600"/>
            <a:ext cx="0" cy="5029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860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rushFlair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Trebuchet MS"/>
              </a:rPr>
              <a:t>ntroduction </a:t>
            </a:r>
            <a:r>
              <a:rPr b="0" lang="en-US" sz="4400" spc="-1" strike="noStrike">
                <a:solidFill>
                  <a:srgbClr val="000099"/>
                </a:solidFill>
                <a:latin typeface="BrushFlair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7600" y="640080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2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2182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st use technically sound instrume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006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26456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and behavioral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or development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1676520"/>
            <a:ext cx="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3581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ssess the relative contribution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9960" y="64771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52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05416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rained and knowledgeable perso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cordance with documented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urposes for which the assessments or measures are valid and rel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53341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640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371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ssments and other evaluation procedures must be administere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5480" y="640080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48006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358360"/>
            <a:ext cx="41911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and emotion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v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7524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reas related to the suspected disability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f appropriat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66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26668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56386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2724120" cy="410184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"/>
          <p:cNvSpPr/>
          <p:nvPr/>
        </p:nvSpPr>
        <p:spPr>
          <a:xfrm>
            <a:off x="1220400" y="15228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486400" y="2743200"/>
            <a:ext cx="2514600" cy="35053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4648320"/>
            <a:ext cx="419112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129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ssments and other evaluation procedures mus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26216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and administered so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discriminatory on a racial or cultur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and administered in child’s native language or other mode of communication,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the form most likely to yie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45399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information on w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knows and ca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0880" y="5486400"/>
            <a:ext cx="23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4572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33412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373248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less it is clearly not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62720" y="2819520"/>
            <a:ext cx="2344680" cy="3352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6021000" y="62485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065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ssments and other evaluation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2817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tailored to assess specific areas of educationa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9810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981080"/>
            <a:ext cx="358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8177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erely those design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single general intelligence quot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54100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981080" y="403812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91320" y="40381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92600" y="64771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252600"/>
            <a:ext cx="39625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ly reflect child’s aptitude or achievement lev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or whatever other factors the test purports to measu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590920"/>
            <a:ext cx="236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274320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3228840"/>
            <a:ext cx="40384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st reflect child’s impaired skills </a:t>
            </a:r>
            <a:br>
              <a:rPr sz="24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unless those are the factor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est purports to measu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548640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141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an assessment is administered to a child with impaired sensory, manual, or speaking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assessment resul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715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438280" y="5028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5028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2600" y="64771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457200"/>
            <a:ext cx="5943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838080"/>
            <a:ext cx="167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049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When Students Transfer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3124080"/>
            <a:ext cx="48006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necess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swiftly as possi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ensure prompt completion of full eval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2209680"/>
            <a:ext cx="29718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76520"/>
            <a:ext cx="4952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sessments are coordinated between old and new public agencies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838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95880" y="2362320"/>
            <a:ext cx="2686320" cy="4038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49960" y="5638680"/>
            <a:ext cx="38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 public agenci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ame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4160" y="19051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9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91440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66880" y="228600"/>
            <a:ext cx="36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oundup Ti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83808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7315200" cy="490068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2" name=""/>
          <p:cNvSpPr/>
          <p:nvPr/>
        </p:nvSpPr>
        <p:spPr>
          <a:xfrm>
            <a:off x="6630480" y="617220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This module answers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these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2112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evalua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2112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the purpose of evalua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2112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required to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duct a technically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und evalua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3429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2666880"/>
            <a:ext cx="3429000" cy="38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666880"/>
            <a:ext cx="3353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Evaluation se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37339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7960" indent="-22536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ro to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960" indent="-22536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evaluation &amp; re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960" indent="-22536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children with specific learning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3352680"/>
            <a:ext cx="3429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038480" y="1752120"/>
            <a:ext cx="1447920" cy="2057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562720"/>
            <a:ext cx="4191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5562720"/>
            <a:ext cx="0" cy="838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715000"/>
            <a:ext cx="3733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71500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990720"/>
            <a:ext cx="0" cy="1371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514600"/>
            <a:ext cx="17524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1143000"/>
            <a:ext cx="0" cy="990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2362320"/>
            <a:ext cx="1523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3560" y="57913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2895480"/>
            <a:ext cx="2532240" cy="381024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630520" cy="39625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429000" y="152280"/>
            <a:ext cx="3505320" cy="23338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3352680" y="22860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Richard</a:t>
            </a:r>
            <a:r>
              <a:rPr b="0" lang="en-US" sz="28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144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san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19810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Kevin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19920"/>
            <a:ext cx="5790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1430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049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0800" y="609588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62320" y="228600"/>
            <a:ext cx="4647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914400"/>
            <a:ext cx="167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838080"/>
            <a:ext cx="12189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3049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Purposes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36232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e if the child is a “child with a disability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fined by IDEA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ather information that will help determine child’s educational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uide decision making about appropriate educational program for the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7680" y="632448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80880"/>
            <a:ext cx="5943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838080"/>
            <a:ext cx="167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572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rebuchet MS"/>
              </a:rPr>
              <a:t>Before</a:t>
            </a: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 Any Initial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124080"/>
            <a:ext cx="59436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 parent(s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noti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tai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br>
              <a:rPr sz="2600"/>
            </a:b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informed </a:t>
            </a:r>
            <a:br>
              <a:rPr sz="2600"/>
            </a:b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cons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3378240"/>
            <a:ext cx="4724640" cy="3143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6200" y="3200400"/>
            <a:ext cx="502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20968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ublic agency mu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2960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8200" y="289548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52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st use of a variety of assessment too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d strategies to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81952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961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information about the child, inclu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by parents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0292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52388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2514600" cy="36576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51814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4080" y="617220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43200" y="2438280"/>
            <a:ext cx="5943600" cy="403884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ffff"/>
              </a:gs>
              <a:gs pos="100000">
                <a:srgbClr val="a5002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y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8270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the child is a “child with a disa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of the child’s I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2680" y="114300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assist in determ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029200"/>
            <a:ext cx="49528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involved in and progress in the general education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preschool child, to participate in appropriat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419112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info related to enabling the chi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4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5639040" cy="3759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280" y="64771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3581280"/>
            <a:ext cx="3733560" cy="25797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2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324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sufficiently comprehensive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0463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dentify all of the child’s special education and related service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572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or not those needs are commonly linked to the disability category in which the child has been 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752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462480" cy="23018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677600" y="62485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How”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0652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y not use any single measure or assessment as the sole criterion for determ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312408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The “What”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49316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the child is a “child with a disa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ropriate educational program for the chi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905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2600" y="6477120"/>
            <a:ext cx="163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31:29Z</dcterms:created>
  <dc:creator>Lisa Kupper</dc:creator>
  <dc:description/>
  <dc:language>en-US</dc:language>
  <cp:lastModifiedBy>REBHORN</cp:lastModifiedBy>
  <dcterms:modified xsi:type="dcterms:W3CDTF">2008-02-25T20:31:29Z</dcterms:modified>
  <cp:revision>177</cp:revision>
  <dc:subject/>
  <dc:title>History of IDEA</dc:title>
</cp:coreProperties>
</file>