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6FE-5C5B-421D-B078-E5B2CBCB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921-D5E9-425F-832E-386F4B1E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47F-18C8-4509-ABD0-67AF2822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4DD-0AFF-48F3-BF92-246F8274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74C-BC5C-4E92-8DEB-E21DB77A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AB2-E27E-49EA-A5B4-1EC2882A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E2F-23EA-4809-8BF5-9AB55BCB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7B2-5E0F-435B-8371-7818A85D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EE5-B5BA-48BF-A29D-D23DBF00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F99-7584-4ADB-BC76-CE91DBE5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898-1070-4955-A87B-27C00E7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1EC-4CC8-4FDA-93EE-5750B3D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2B5A-C239-4C0E-B2B9-5497E6E7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47844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gasus"/>
              </a:rPr>
              <a:t>America's future walks through the doors of our schools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02040" y="624852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ary Jean LeTend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95280" y="304920"/>
            <a:ext cx="6629400" cy="441468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1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507960"/>
            <a:ext cx="8686800" cy="604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685800"/>
            <a:ext cx="3124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stonScript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mery"/>
              </a:rPr>
              <a:t>emocracy does not guarantee equality, only equality of opport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914400"/>
            <a:ext cx="4964040" cy="5562360"/>
            <a:chOff x="380880" y="914400"/>
            <a:chExt cx="4964040" cy="556236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761760" y="914400"/>
              <a:ext cx="4583160" cy="50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09480" y="6019560"/>
              <a:ext cx="2286000" cy="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160" y="3581280"/>
              <a:ext cx="0" cy="274320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6172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457200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553080" y="47242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lizzardD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BlizzardD"/>
              </a:rPr>
              <a:t>Irving Krist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505320" y="1371600"/>
            <a:ext cx="5410080" cy="3657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920"/>
            <a:ext cx="2743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Bring ideas in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and entertain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them royall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5715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y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mery"/>
              </a:rPr>
              <a:t>Mark Van Do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7432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for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may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the 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33920" y="1523880"/>
            <a:ext cx="5029200" cy="33498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4343400" y="1295280"/>
            <a:ext cx="44956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2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42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91120" y="990720"/>
            <a:ext cx="495288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114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-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laire Nu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219320"/>
            <a:ext cx="34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Draconian"/>
              </a:rPr>
              <a:t>W</a:t>
            </a:r>
            <a:r>
              <a:rPr b="0" lang="en-US" sz="2800" spc="-1" strike="noStrike">
                <a:solidFill>
                  <a:srgbClr val="3333cc"/>
                </a:solidFill>
                <a:latin typeface="Book Antiqua"/>
              </a:rPr>
              <a:t>ill you be the rock that redirects the course of the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24280" y="1295280"/>
            <a:ext cx="3389400" cy="51055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p:transition spd="slow" advTm="12000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4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304920"/>
            <a:ext cx="4572000" cy="6248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685800"/>
            <a:ext cx="3124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stonScript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mery"/>
              </a:rPr>
              <a:t>ever let the fear of striking out get in your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9625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lizzardD"/>
              </a:rPr>
              <a:t>-- </a:t>
            </a:r>
            <a:r>
              <a:rPr b="0" lang="en-US" sz="3200" spc="-1" strike="noStrike">
                <a:solidFill>
                  <a:srgbClr val="000000"/>
                </a:solidFill>
                <a:latin typeface="BlizzardD"/>
              </a:rPr>
              <a:t>Babe 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3929040" cy="58449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p:transition spd="slow" advTm="12000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228600" y="5334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y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mery"/>
              </a:rPr>
              <a:t>Secretary of St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y"/>
              </a:rPr>
              <a:t>Colin Po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66688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Leadership is not rank, privilege, titles, or mo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It’s responsibi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95680" y="304920"/>
            <a:ext cx="4133880" cy="6248160"/>
          </a:xfrm>
          <a:prstGeom prst="rect">
            <a:avLst/>
          </a:prstGeom>
          <a:ln w="93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" name=""/>
          <p:cNvSpPr/>
          <p:nvPr/>
        </p:nvSpPr>
        <p:spPr>
          <a:xfrm>
            <a:off x="4267080" y="457200"/>
            <a:ext cx="0" cy="5943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609480"/>
            <a:ext cx="0" cy="563904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762120"/>
            <a:ext cx="0" cy="5333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66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78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52280"/>
            <a:ext cx="4343400" cy="640080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5867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azone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Thomas Alva Ed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90512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DomCasual BT"/>
              </a:rPr>
              <a:t>Resul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352680"/>
            <a:ext cx="403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DomCasual BT"/>
              </a:rPr>
              <a:t>Why, man, I have gotten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DomCasual BT"/>
              </a:rPr>
              <a:t>a lot of results. I know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DomCasual BT"/>
              </a:rPr>
              <a:t>several thousand things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DomCasual BT"/>
              </a:rPr>
              <a:t>that won't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973680" cy="59436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spd="slow" advTm="15000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59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98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84160" y="1676520"/>
            <a:ext cx="3962520" cy="48117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7913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Stroke 26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en </a:t>
            </a:r>
            <a:r>
              <a:rPr b="0" lang="en-US" sz="2400" spc="-1" strike="noStrike">
                <a:solidFill>
                  <a:srgbClr val="000000"/>
                </a:solidFill>
                <a:latin typeface="BrushStroke 26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0492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BrushStroke 26"/>
              </a:rPr>
              <a:t>Keep your face to the sunshine and you cannot see the shado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523880"/>
            <a:ext cx="54864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523880"/>
            <a:ext cx="0" cy="4724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1828800"/>
            <a:ext cx="0" cy="396252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1905120"/>
            <a:ext cx="0" cy="373356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66680" y="1828800"/>
            <a:ext cx="3659400" cy="457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19920" y="6248520"/>
            <a:ext cx="23619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590920"/>
            <a:ext cx="0" cy="2514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2286000"/>
            <a:ext cx="0" cy="30481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2057400"/>
            <a:ext cx="0" cy="3429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48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98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98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98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477120" y="60958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John F. Kenne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51055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rebuchet MS"/>
              </a:rPr>
              <a:t>Let us think of education as the means of developing our greatest abilit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7315200" cy="463536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3" name=""/>
          <p:cNvSpPr/>
          <p:nvPr/>
        </p:nvSpPr>
        <p:spPr>
          <a:xfrm>
            <a:off x="1066680" y="5181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rebuchet MS"/>
              </a:rPr>
              <a:t>…</a:t>
            </a:r>
            <a:r>
              <a:rPr b="1" lang="en-US" sz="2400" spc="-1" strike="noStrike">
                <a:solidFill>
                  <a:srgbClr val="000099"/>
                </a:solidFill>
                <a:latin typeface="Trebuchet MS"/>
              </a:rPr>
              <a:t>because in each of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5105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rebuchet MS"/>
              </a:rPr>
              <a:t>there is a private hope and dream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rebuchet MS"/>
              </a:rPr>
              <a:t>which, fulfill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510552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rebuchet MS"/>
              </a:rPr>
              <a:t>…</a:t>
            </a:r>
            <a:r>
              <a:rPr b="1" lang="en-US" sz="2400" spc="-1" strike="noStrike">
                <a:solidFill>
                  <a:srgbClr val="000099"/>
                </a:solidFill>
                <a:latin typeface="Trebuchet MS"/>
              </a:rPr>
              <a:t>can be translated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rebuchet MS"/>
              </a:rPr>
              <a:t>into benefit for every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200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2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400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72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800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800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16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800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800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152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3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304920" y="152280"/>
            <a:ext cx="4419360" cy="6477120"/>
            <a:chOff x="304920" y="152280"/>
            <a:chExt cx="4419360" cy="6477120"/>
          </a:xfrm>
        </p:grpSpPr>
        <p:sp>
          <p:nvSpPr>
            <p:cNvPr id="147" name=""/>
            <p:cNvSpPr/>
            <p:nvPr/>
          </p:nvSpPr>
          <p:spPr>
            <a:xfrm>
              <a:off x="304920" y="152280"/>
              <a:ext cx="4419360" cy="64771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4280040" cy="635328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</p:grpSp>
      <p:sp>
        <p:nvSpPr>
          <p:cNvPr id="149" name=""/>
          <p:cNvSpPr/>
          <p:nvPr/>
        </p:nvSpPr>
        <p:spPr>
          <a:xfrm>
            <a:off x="5257800" y="2149200"/>
            <a:ext cx="34290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stonScript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Beach"/>
              </a:rPr>
              <a:t>e know what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ach"/>
              </a:rPr>
              <a:t>are, but know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ach"/>
              </a:rPr>
              <a:t>what we may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5468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azone BT"/>
              </a:rPr>
              <a:t>Shakespe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601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I suppose leadership at one time meant musc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013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…</a:t>
            </a: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today it means getting along with people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5943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-Indira Gand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943600" cy="39499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18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1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9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9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grpSp>
        <p:nvGrpSpPr>
          <p:cNvPr id="45" name=""/>
          <p:cNvGrpSpPr/>
          <p:nvPr/>
        </p:nvGrpSpPr>
        <p:grpSpPr>
          <a:xfrm>
            <a:off x="533520" y="2133720"/>
            <a:ext cx="4647960" cy="2209680"/>
            <a:chOff x="533520" y="2133720"/>
            <a:chExt cx="4647960" cy="2209680"/>
          </a:xfrm>
        </p:grpSpPr>
        <p:sp>
          <p:nvSpPr>
            <p:cNvPr id="46" name=""/>
            <p:cNvSpPr/>
            <p:nvPr/>
          </p:nvSpPr>
          <p:spPr>
            <a:xfrm>
              <a:off x="533520" y="2133720"/>
              <a:ext cx="46479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50021"/>
                  </a:solidFill>
                  <a:latin typeface="BrushFlair"/>
                </a:rPr>
                <a:t>Every student can learn,</a:t>
              </a:r>
              <a:r>
                <a:rPr b="0" i="1" lang="en-US" sz="4400" spc="-1" strike="noStrike">
                  <a:solidFill>
                    <a:srgbClr val="a50021"/>
                  </a:solidFill>
                  <a:latin typeface="Bossa Nova MVB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3886200"/>
              <a:ext cx="1922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410080" y="3657600"/>
            <a:ext cx="3353040" cy="2743200"/>
            <a:chOff x="5410080" y="3657600"/>
            <a:chExt cx="3353040" cy="2743200"/>
          </a:xfrm>
        </p:grpSpPr>
        <p:sp>
          <p:nvSpPr>
            <p:cNvPr id="49" name=""/>
            <p:cNvSpPr/>
            <p:nvPr/>
          </p:nvSpPr>
          <p:spPr>
            <a:xfrm>
              <a:off x="5410080" y="3657600"/>
              <a:ext cx="3353040" cy="274320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ffcc"/>
                </a:gs>
              </a:gsLst>
              <a:lin ang="13500000"/>
            </a:gradFill>
            <a:ln w="3240">
              <a:solidFill>
                <a:srgbClr val="ffffcc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5562720" y="3733920"/>
              <a:ext cx="3085920" cy="2590560"/>
            </a:xfrm>
            <a:prstGeom prst="rect">
              <a:avLst/>
            </a:prstGeom>
            <a:ln w="3240">
              <a:solidFill>
                <a:srgbClr val="ffffcc"/>
              </a:solidFill>
              <a:miter/>
            </a:ln>
          </p:spPr>
        </p:pic>
      </p:grpSp>
      <p:sp>
        <p:nvSpPr>
          <p:cNvPr id="51" name=""/>
          <p:cNvSpPr/>
          <p:nvPr/>
        </p:nvSpPr>
        <p:spPr>
          <a:xfrm>
            <a:off x="-133920" y="3071880"/>
            <a:ext cx="54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BrushFlair"/>
              </a:rPr>
              <a:t>just not on the sam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8840" y="4724280"/>
            <a:ext cx="21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-- George Ev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7120" y="3757680"/>
            <a:ext cx="38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BrushFlair"/>
              </a:rPr>
              <a:t>or the same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8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14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410080" y="6858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stonScript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mery"/>
              </a:rPr>
              <a:t>f you think you can do a thing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5715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lizzardD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BlizzardD"/>
              </a:rPr>
              <a:t>Henry F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419720"/>
            <a:ext cx="3353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stonScript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Amery"/>
              </a:rPr>
              <a:t>ou’re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4002120" cy="601956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9" name=""/>
          <p:cNvSpPr/>
          <p:nvPr/>
        </p:nvSpPr>
        <p:spPr>
          <a:xfrm>
            <a:off x="5334120" y="23623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stonScript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mery"/>
              </a:rPr>
              <a:t>r think you can’t do a thin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22860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WinstonScript"/>
              </a:rPr>
              <a:t>I</a:t>
            </a:r>
            <a:r>
              <a:rPr b="0" lang="en-US" sz="3600" spc="-1" strike="noStrike">
                <a:solidFill>
                  <a:srgbClr val="000099"/>
                </a:solidFill>
                <a:latin typeface="Amery"/>
              </a:rPr>
              <a:t>f not now, </a:t>
            </a:r>
            <a:r>
              <a:rPr b="0" lang="en-US" sz="5400" spc="-1" strike="noStrike">
                <a:solidFill>
                  <a:srgbClr val="000099"/>
                </a:solidFill>
                <a:latin typeface="WinstonScript"/>
              </a:rPr>
              <a:t>w</a:t>
            </a:r>
            <a:r>
              <a:rPr b="0" lang="en-US" sz="3600" spc="-1" strike="noStrike">
                <a:solidFill>
                  <a:srgbClr val="000099"/>
                </a:solidFill>
                <a:latin typeface="Amery"/>
              </a:rPr>
              <a:t>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Palatino Linotype"/>
              </a:rPr>
              <a:t>-- Talmud</a:t>
            </a:r>
            <a:r>
              <a:rPr b="0" lang="en-US" sz="4000" spc="-1" strike="noStrike">
                <a:solidFill>
                  <a:srgbClr val="000099"/>
                </a:solidFill>
                <a:latin typeface="WinstonScrip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6934320" cy="466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12000">
    <p:fade thruBlk="true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5880" y="58672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lizzardD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BlizzardD"/>
              </a:rPr>
              <a:t>Abraham Lincol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609480"/>
            <a:ext cx="33526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Draconian"/>
              </a:rPr>
              <a:t>D</a:t>
            </a:r>
            <a:r>
              <a:rPr b="0" lang="en-US" sz="2800" spc="-1" strike="noStrike">
                <a:solidFill>
                  <a:srgbClr val="3333cc"/>
                </a:solidFill>
                <a:latin typeface="Book Antiqua"/>
              </a:rPr>
              <a:t>etermine the thing that can and shall be do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1911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Draconian"/>
              </a:rPr>
              <a:t>…</a:t>
            </a:r>
            <a:r>
              <a:rPr b="0" lang="en-US" sz="2800" spc="-1" strike="noStrike">
                <a:solidFill>
                  <a:srgbClr val="3333cc"/>
                </a:solidFill>
                <a:latin typeface="Book Antiqua"/>
              </a:rPr>
              <a:t>and then we shall find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228600"/>
            <a:ext cx="4723920" cy="6248160"/>
            <a:chOff x="304920" y="228600"/>
            <a:chExt cx="4723920" cy="6248160"/>
          </a:xfrm>
        </p:grpSpPr>
        <p:sp>
          <p:nvSpPr>
            <p:cNvPr id="167" name=""/>
            <p:cNvSpPr/>
            <p:nvPr/>
          </p:nvSpPr>
          <p:spPr>
            <a:xfrm>
              <a:off x="304920" y="228600"/>
              <a:ext cx="4723920" cy="62481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612720" y="512280"/>
              <a:ext cx="4136040" cy="5680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4000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724280" y="838080"/>
            <a:ext cx="3810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stonScript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Amery"/>
              </a:rPr>
              <a:t>hy not go ou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y"/>
              </a:rPr>
              <a:t>on a limb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50292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lizzardD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BlizzardD"/>
              </a:rPr>
              <a:t>Frank Sc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152960" cy="624852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2" name=""/>
          <p:cNvSpPr/>
          <p:nvPr/>
        </p:nvSpPr>
        <p:spPr>
          <a:xfrm>
            <a:off x="4876920" y="26668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stonScript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mery"/>
              </a:rPr>
              <a:t>sn’t that whe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y"/>
              </a:rPr>
              <a:t>the fruit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7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696080" cy="6416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457200" y="304920"/>
            <a:ext cx="3886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There is a wonder in reading Bra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6172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y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mery"/>
              </a:rPr>
              <a:t>Jim Fieb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4038480"/>
            <a:ext cx="289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To touch words and have them touch you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2209680"/>
            <a:ext cx="3886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that the sighted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will never know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 thruBlk="true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2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2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6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60" nodeType="afterEffect" fill="hold" presetClass="exit" presetID="9">
                                  <p:stCondLst>
                                    <p:cond delay="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40880" y="304200"/>
            <a:ext cx="77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Jester"/>
              </a:rPr>
              <a:t>It's amazing what you can obser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Jester"/>
              </a:rPr>
              <a:t>just by watching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73800" y="601992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Flair"/>
              </a:rPr>
              <a:t>Yogi Berr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019920" cy="400860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15000">
    <p:fade thruBlk="true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19720" y="228600"/>
            <a:ext cx="4343400" cy="6172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873600" cy="579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3623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ernhardTango BT"/>
              </a:rPr>
              <a:t>A child is the root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BernhardTango BT"/>
              </a:rPr>
              <a:t>of the hea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267080"/>
            <a:ext cx="33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--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arolina María de Jesú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57200" y="304920"/>
            <a:ext cx="5943600" cy="1523880"/>
            <a:chOff x="457200" y="304920"/>
            <a:chExt cx="5943600" cy="1523880"/>
          </a:xfrm>
        </p:grpSpPr>
        <p:sp>
          <p:nvSpPr>
            <p:cNvPr id="59" name=""/>
            <p:cNvSpPr/>
            <p:nvPr/>
          </p:nvSpPr>
          <p:spPr>
            <a:xfrm>
              <a:off x="457200" y="304920"/>
              <a:ext cx="59436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Bradley Hand ITC"/>
                </a:rPr>
                <a:t>Children are the living messages </a:t>
              </a:r>
              <a:br>
                <a:rPr sz="3200"/>
              </a:br>
              <a:r>
                <a:rPr b="1" lang="en-US" sz="3200" spc="-1" strike="noStrike">
                  <a:solidFill>
                    <a:srgbClr val="000099"/>
                  </a:solidFill>
                  <a:latin typeface="Bradley Hand ITC"/>
                </a:rPr>
                <a:t>we send to a time we will not se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920" y="1371600"/>
              <a:ext cx="259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200400" y="1981080"/>
            <a:ext cx="5562720" cy="44499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5257800" cy="42084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5763960" y="1371600"/>
            <a:ext cx="27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-- John W. White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5565600" cy="4389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65" name=""/>
          <p:cNvSpPr/>
          <p:nvPr/>
        </p:nvSpPr>
        <p:spPr>
          <a:xfrm>
            <a:off x="1447920" y="3808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Menthol"/>
              </a:rPr>
              <a:t>We cannot always build the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Menthol"/>
              </a:rPr>
              <a:t>future for our childr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49528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-- 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ranklin D. Rooseve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1600200"/>
            <a:ext cx="28954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Menthol"/>
              </a:rPr>
              <a:t>…</a:t>
            </a:r>
            <a:r>
              <a:rPr b="0" lang="en-US" sz="3600" spc="-1" strike="noStrike">
                <a:solidFill>
                  <a:srgbClr val="a50021"/>
                </a:solidFill>
                <a:latin typeface="Menthol"/>
              </a:rPr>
              <a:t>but we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Menthol"/>
              </a:rPr>
              <a:t>can build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Menthol"/>
              </a:rPr>
              <a:t>our children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Menthol"/>
              </a:rPr>
              <a:t>for the fu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6400800"/>
            <a:ext cx="5486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676520"/>
            <a:ext cx="44193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1676520"/>
            <a:ext cx="0" cy="449568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1752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17524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3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304920"/>
            <a:ext cx="4343400" cy="6248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394632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10080" y="1219320"/>
            <a:ext cx="31244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Lucida Handwriting"/>
              </a:rPr>
              <a:t>Action is charac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lizzardD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BlizzardD"/>
              </a:rPr>
              <a:t>F. Scott Fitzgera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6248520" cy="425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0" y="1676520"/>
            <a:ext cx="0" cy="464796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676520"/>
            <a:ext cx="64771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752480"/>
            <a:ext cx="609624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80880"/>
            <a:ext cx="716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WinstonScript"/>
              </a:rPr>
              <a:t>H</a:t>
            </a:r>
            <a:r>
              <a:rPr b="0" lang="en-US" sz="3600" spc="-1" strike="noStrike">
                <a:solidFill>
                  <a:srgbClr val="a50021"/>
                </a:solidFill>
                <a:latin typeface="Amery"/>
              </a:rPr>
              <a:t>ow we spend our days is,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Amery"/>
              </a:rPr>
              <a:t>of course, how we spend our l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12193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lizzardD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BlizzardD"/>
              </a:rPr>
              <a:t>Annie Dill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1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52280"/>
            <a:ext cx="4343400" cy="6324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762120"/>
            <a:ext cx="3809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The very essence of leadership is that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you have to have a visio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51814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y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mery"/>
              </a:rPr>
              <a:t>Theodore Hesbur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4003560" cy="60195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5105520" y="320040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enthol"/>
              </a:rPr>
              <a:t>You cannot blow an uncertain trump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2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91120" y="990720"/>
            <a:ext cx="4952880" cy="480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5867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lizzardD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BlizzardD"/>
              </a:rPr>
              <a:t>James B. Con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4920"/>
            <a:ext cx="34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Draconian"/>
              </a:rPr>
              <a:t>D</a:t>
            </a:r>
            <a:r>
              <a:rPr b="0" lang="en-US" sz="2800" spc="-1" strike="noStrike">
                <a:solidFill>
                  <a:srgbClr val="3333cc"/>
                </a:solidFill>
                <a:latin typeface="Book Antiqua"/>
              </a:rPr>
              <a:t>emocracy is a small hard core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Book Antiqua"/>
              </a:rPr>
              <a:t>of common agre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19720" y="11430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4267080"/>
            <a:ext cx="335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ook Antiqua"/>
              </a:rPr>
              <a:t>surrounded by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Book Antiqua"/>
              </a:rPr>
              <a:t>a rich variety of  individual dif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1:35:29Z</dcterms:created>
  <dc:creator>Lisa Kupper</dc:creator>
  <dc:description/>
  <dc:language>en-US</dc:language>
  <cp:lastModifiedBy>Lisa Küpper</cp:lastModifiedBy>
  <dcterms:modified xsi:type="dcterms:W3CDTF">2007-05-09T11:35:32Z</dcterms:modified>
  <cp:revision>135</cp:revision>
  <dc:subject/>
  <dc:title>History of IDEA</dc:title>
</cp:coreProperties>
</file>