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B8F-4699-4BF9-A037-736C90A6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074-FB14-4591-9A0B-8E38B848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620-9225-481B-98A9-F10EB43F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DE9-B3E7-4911-B762-EDABE6AA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3F3-9CF6-435C-ACC2-AF03E409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312-713D-4EA1-AFBF-240FF4E8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529-8605-4002-8449-B8B5172D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040-15A6-44F0-8219-AC7C222E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ACA-C089-4226-A933-9AA7641B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3B8-6B2D-4D72-93D2-B3C319A3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23E-724E-4166-9053-500B7B95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E05-A04A-4A2B-BEE7-C174DB48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8F88-0102-4FBA-BE57-3C170922D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533880"/>
            <a:ext cx="266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The universe is fu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of magical th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patiently 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46520" y="6119640"/>
            <a:ext cx="221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Palatino Linotype"/>
              </a:rPr>
              <a:t>Eden Phillpot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3657600"/>
            <a:ext cx="221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our w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to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shar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5791320" cy="579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18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7736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SeldaneScript"/>
              </a:rPr>
              <a:t>A</a:t>
            </a:r>
            <a:r>
              <a:rPr b="0" lang="en-US" sz="2800" spc="-1" strike="noStrike">
                <a:solidFill>
                  <a:srgbClr val="a50021"/>
                </a:solidFill>
                <a:latin typeface="SeldaneScript"/>
              </a:rPr>
              <a:t>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76720" y="533520"/>
            <a:ext cx="5410080" cy="45100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" name=""/>
          <p:cNvSpPr/>
          <p:nvPr/>
        </p:nvSpPr>
        <p:spPr>
          <a:xfrm>
            <a:off x="762120" y="35938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ldaneScript"/>
              </a:rPr>
              <a:t>we can do so mu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142280"/>
            <a:ext cx="182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ldaneScript"/>
              </a:rPr>
              <a:t>we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ldaneScript"/>
              </a:rPr>
              <a:t>do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ldaneScript"/>
              </a:rPr>
              <a:t>little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.</a:t>
            </a:r>
            <a:r>
              <a:rPr b="0" lang="en-US" sz="2400" spc="-1" strike="noStrike">
                <a:solidFill>
                  <a:srgbClr val="a50021"/>
                </a:solidFill>
                <a:latin typeface="SeldaneScrip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SeldaneScript"/>
              </a:rPr>
              <a:t>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7200" y="5410080"/>
            <a:ext cx="2438280" cy="535680"/>
            <a:chOff x="457200" y="5410080"/>
            <a:chExt cx="2438280" cy="535680"/>
          </a:xfrm>
        </p:grpSpPr>
        <p:sp>
          <p:nvSpPr>
            <p:cNvPr id="85" name=""/>
            <p:cNvSpPr/>
            <p:nvPr/>
          </p:nvSpPr>
          <p:spPr>
            <a:xfrm>
              <a:off x="783360" y="5486040"/>
              <a:ext cx="18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eldaneScript"/>
                </a:rPr>
                <a:t>H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len </a:t>
              </a:r>
              <a:r>
                <a:rPr b="1" lang="en-US" sz="2400" spc="-1" strike="noStrike">
                  <a:solidFill>
                    <a:srgbClr val="000000"/>
                  </a:solidFill>
                  <a:latin typeface="SeldaneScript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ll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" y="541008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8000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152280"/>
            <a:ext cx="5943600" cy="64771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368360"/>
            <a:ext cx="236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ongIsland"/>
              </a:rPr>
              <a:t>Be your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ongIsland"/>
              </a:rPr>
              <a:t>No one can ever tell you you’re doing it w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5486400" cy="4389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6629400" y="4692960"/>
            <a:ext cx="1600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mes Leo Herli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48640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715000"/>
            <a:ext cx="44956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94360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1519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Lucida Handwriting"/>
              </a:rPr>
              <a:t>The only way a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61840" y="5181480"/>
            <a:ext cx="17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empus Sans ITC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ert </a:t>
            </a:r>
            <a:r>
              <a:rPr b="0" i="1" lang="en-US" sz="2400" spc="-1" strike="noStrike">
                <a:solidFill>
                  <a:srgbClr val="000000"/>
                </a:solidFill>
                <a:latin typeface="Tempus Sans ITC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3751560" cy="56386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7" name=""/>
          <p:cNvSpPr/>
          <p:nvPr/>
        </p:nvSpPr>
        <p:spPr>
          <a:xfrm>
            <a:off x="5410080" y="434304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Lucida Handwriting"/>
              </a:rPr>
              <a:t>is th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04920" y="685440"/>
            <a:ext cx="0" cy="579132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685800"/>
            <a:ext cx="48006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685800"/>
            <a:ext cx="0" cy="43434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50292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0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227520"/>
            <a:ext cx="82296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Not everyth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at can be cou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oun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not everyth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at c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an be counted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41280" y="6172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Monotype Corsiva"/>
              </a:rPr>
              <a:t>Albert Eins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5435640" cy="361476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18000">
    <p:fade thruBlk="true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72200" y="4023720"/>
            <a:ext cx="297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earfaceGotReg"/>
              </a:rPr>
              <a:t>High achie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earfaceGotReg"/>
              </a:rPr>
              <a:t>always takes 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earfaceGotReg"/>
              </a:rPr>
              <a:t>in the fra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earfaceGotReg"/>
              </a:rPr>
              <a:t>of high expec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502680" cy="432432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7" name=""/>
          <p:cNvSpPr/>
          <p:nvPr/>
        </p:nvSpPr>
        <p:spPr>
          <a:xfrm>
            <a:off x="6858000" y="4419720"/>
            <a:ext cx="20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ack K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800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 thruBlk="true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35924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eachers can change lives with just the right mix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f chalk and challeng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24280" y="6019920"/>
            <a:ext cx="210384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Joyce A. M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5054400" cy="336240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0" y="228600"/>
            <a:ext cx="441972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089600" cy="6096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019240" y="464832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ristina"/>
              </a:rPr>
              <a:t>Henry Davi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Pristina"/>
              </a:rPr>
              <a:t>Thor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68832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T Mercurius Light"/>
              </a:rPr>
              <a:t>We must walk consciously only part way toward our goal, and then leap in the dark to our success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3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0" y="228600"/>
            <a:ext cx="441972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963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alisto MT"/>
              </a:rPr>
              <a:t>Ideas are like rabbits.</a:t>
            </a:r>
            <a:r>
              <a:rPr b="1" lang="en-US" sz="2800" spc="-1" strike="noStrike">
                <a:solidFill>
                  <a:srgbClr val="a50021"/>
                </a:solidFill>
                <a:latin typeface="CT Mercurius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7320" y="5486400"/>
            <a:ext cx="29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Pristina"/>
              </a:rPr>
              <a:t>John Steinbeck</a:t>
            </a:r>
            <a:r>
              <a:rPr b="1" lang="en-US" sz="2800" spc="-1" strike="noStrike">
                <a:solidFill>
                  <a:srgbClr val="000000"/>
                </a:solidFill>
                <a:latin typeface="Pristi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980000"/>
            <a:ext cx="3429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sto MT"/>
              </a:rPr>
              <a:t>You get a couple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Calisto MT"/>
              </a:rPr>
              <a:t>and learn how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Calisto MT"/>
              </a:rPr>
              <a:t>to handle them</a:t>
            </a:r>
            <a:r>
              <a:rPr b="1" lang="en-US" sz="2800" spc="-1" strike="noStrike">
                <a:solidFill>
                  <a:srgbClr val="000099"/>
                </a:solidFill>
                <a:latin typeface="Calisto MT"/>
              </a:rPr>
              <a:t>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377784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listo MT"/>
              </a:rPr>
              <a:t>and pretty soon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Calisto MT"/>
              </a:rPr>
              <a:t>you have a do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091040" cy="609624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</p:spTree>
  </p:cSld>
  <p:transition spd="slow" advTm="24000">
    <p:fade thruBlk="true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4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7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6095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iley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n F. </a:t>
            </a:r>
            <a:r>
              <a:rPr b="0" lang="en-US" sz="2800" spc="-1" strike="noStrike">
                <a:solidFill>
                  <a:srgbClr val="000000"/>
                </a:solidFill>
                <a:latin typeface="Bailey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-120600"/>
            <a:ext cx="3200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Belwe Lt BT"/>
              </a:rPr>
              <a:t>All of us do not have equal t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Belwe Lt BT"/>
              </a:rPr>
              <a:t>but all of us should have an equal opportunity to develop our talen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38480" y="3276720"/>
            <a:ext cx="4830840" cy="327960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"/>
          <p:cNvSpPr/>
          <p:nvPr/>
        </p:nvSpPr>
        <p:spPr>
          <a:xfrm flipH="1">
            <a:off x="3733920" y="2971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2971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33520" y="6629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 thruBlk="true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4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228600"/>
            <a:ext cx="4343400" cy="64008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276000"/>
            <a:ext cx="29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iandra GD"/>
              </a:rPr>
              <a:t>To hei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aiandra GD"/>
              </a:rPr>
              <a:t>is hum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4068720" cy="6096240"/>
          </a:xfrm>
          <a:prstGeom prst="rect">
            <a:avLst/>
          </a:prstGeom>
          <a:ln w="9360">
            <a:solidFill>
              <a:srgbClr val="cccc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2" name=""/>
          <p:cNvSpPr/>
          <p:nvPr/>
        </p:nvSpPr>
        <p:spPr>
          <a:xfrm>
            <a:off x="5662080" y="5883120"/>
            <a:ext cx="34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Dolores E. McGu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362320" y="2133720"/>
            <a:ext cx="6502320" cy="432432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" name=""/>
          <p:cNvSpPr/>
          <p:nvPr/>
        </p:nvSpPr>
        <p:spPr>
          <a:xfrm>
            <a:off x="599400" y="394560"/>
            <a:ext cx="72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gasus"/>
              </a:rPr>
              <a:t>It's not what is poured into a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720" y="586656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xPonto Regular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a Con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7600" y="989640"/>
            <a:ext cx="396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gasus"/>
              </a:rPr>
              <a:t>but what is planted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28600"/>
            <a:ext cx="4191120" cy="6324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TC Officina Sans Book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ITC Officina Sans Book"/>
              </a:rPr>
              <a:t>George Santay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1371600"/>
            <a:ext cx="35053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I-Respot"/>
              </a:rPr>
              <a:t>The family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JI-Respot"/>
              </a:rPr>
              <a:t>one of nature’s masterpieces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3862440" cy="60199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3959280" cy="59436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73120" y="457200"/>
            <a:ext cx="3922560" cy="586728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09480" y="457200"/>
            <a:ext cx="3880080" cy="579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609480" y="457200"/>
            <a:ext cx="3915000" cy="58672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533520" y="380880"/>
            <a:ext cx="4010040" cy="6019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533520" y="380880"/>
            <a:ext cx="4054320" cy="60962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 thruBlk="true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439" nodeType="afterEffect" fill="hold" presetClass="exit" presetID="55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9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4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57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1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3000"/>
                            </p:stCondLst>
                            <p:childTnLst>
                              <p:par>
                                <p:cTn id="465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6500"/>
                            </p:stCondLst>
                            <p:childTnLst>
                              <p:par>
                                <p:cTn id="47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5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2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1828800"/>
            <a:ext cx="7010280" cy="46483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11840"/>
            <a:ext cx="6553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ldaneScrip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ommittee is a grou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at has a commitment.</a:t>
            </a:r>
            <a:r>
              <a:rPr b="0" lang="en-US" sz="3200" spc="-1" strike="noStrike">
                <a:solidFill>
                  <a:srgbClr val="000000"/>
                </a:solidFill>
                <a:latin typeface="Charlesworth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Charleswor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6553080" cy="436428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7592040" y="4495680"/>
            <a:ext cx="96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ldaneScript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g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e</a:t>
            </a:r>
            <a:r>
              <a:rPr b="0" lang="en-US" sz="2400" spc="-1" strike="noStrike">
                <a:solidFill>
                  <a:srgbClr val="000000"/>
                </a:solidFill>
                <a:latin typeface="SeldaneScrip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3809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EraserDust"/>
              </a:rPr>
              <a:t>Learning is a treasure 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EraserDust"/>
              </a:rPr>
              <a:t>which follows its owner everywhere.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262400" cy="640080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"/>
          <p:cNvSpPr/>
          <p:nvPr/>
        </p:nvSpPr>
        <p:spPr>
          <a:xfrm>
            <a:off x="685800" y="5943600"/>
            <a:ext cx="28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ldaneScript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ese Pro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5867280"/>
            <a:ext cx="2667240" cy="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 thruBlk="true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5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30384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JI-Plages"/>
              </a:rPr>
              <a:t>Nobody has ever measured, not even the poets, how much a heart can hold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7086600" cy="47894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447920" y="2209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219320" y="144756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447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16002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4520" y="588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3200" spc="-1" strike="noStrike">
                <a:solidFill>
                  <a:srgbClr val="990033"/>
                </a:solidFill>
                <a:latin typeface="Monotype Corsiva"/>
              </a:rPr>
              <a:t>Z</a:t>
            </a:r>
            <a:r>
              <a:rPr b="0" lang="en-US" sz="2400" spc="-1" strike="noStrike">
                <a:solidFill>
                  <a:srgbClr val="990033"/>
                </a:solidFill>
                <a:latin typeface="Monotype Corsiva"/>
              </a:rPr>
              <a:t>elda </a:t>
            </a:r>
            <a:r>
              <a:rPr b="0" lang="en-US" sz="3200" spc="-1" strike="noStrike">
                <a:solidFill>
                  <a:srgbClr val="990033"/>
                </a:solidFill>
                <a:latin typeface="Monotype Corsiva"/>
              </a:rPr>
              <a:t>F</a:t>
            </a:r>
            <a:r>
              <a:rPr b="0" lang="en-US" sz="2400" spc="-1" strike="noStrike">
                <a:solidFill>
                  <a:srgbClr val="990033"/>
                </a:solidFill>
                <a:latin typeface="Monotype Corsiva"/>
              </a:rPr>
              <a:t>itzgeral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 thruBlk="true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6000"/>
                            </p:stCondLst>
                            <p:childTnLst>
                              <p:par>
                                <p:cTn id="5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51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-619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empus Sans ITC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empus Sans ITC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empus Sans ITC"/>
              </a:rPr>
              <a:t>worry about what a child will b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6400800" cy="434664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0" name=""/>
          <p:cNvSpPr/>
          <p:nvPr/>
        </p:nvSpPr>
        <p:spPr>
          <a:xfrm>
            <a:off x="1600200" y="6400800"/>
            <a:ext cx="48006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620120" y="2286000"/>
            <a:ext cx="0" cy="327672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609588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flischScript Regular"/>
              </a:rPr>
              <a:t>--Stacia Taus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547920"/>
            <a:ext cx="8001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empus Sans ITC"/>
              </a:rPr>
              <a:t>yet we forget that he or she is someone today</a:t>
            </a:r>
            <a:r>
              <a:rPr b="1" lang="en-US" sz="3200" spc="-1" strike="noStrike">
                <a:solidFill>
                  <a:srgbClr val="000099"/>
                </a:solidFill>
                <a:latin typeface="Tempus Sans ITC"/>
              </a:rPr>
              <a:t>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 thruBlk="true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5605560" cy="37990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1905120" y="47390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Our children teach us </a:t>
            </a:r>
            <a:r>
              <a:rPr b="0" lang="en-US" sz="2800" spc="-1" strike="noStrike">
                <a:solidFill>
                  <a:srgbClr val="a50021"/>
                </a:solidFill>
                <a:latin typeface="Myriad Roman"/>
              </a:rPr>
              <a:t>what life is all about</a:t>
            </a: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25640" y="5732640"/>
            <a:ext cx="33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stonScript"/>
              </a:rPr>
              <a:t>Angela Schwin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205880"/>
            <a:ext cx="7772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WinstonScript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hile we try to teach our children all about lif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 thruBlk="true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56880" y="456120"/>
            <a:ext cx="757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empus Sans ITC"/>
              </a:rPr>
              <a:t>I am not a teacher but an awak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95360" y="5967360"/>
            <a:ext cx="17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empus Sans ITC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ert </a:t>
            </a:r>
            <a:r>
              <a:rPr b="0" i="1" lang="en-US" sz="2400" spc="-1" strike="noStrike">
                <a:solidFill>
                  <a:srgbClr val="000000"/>
                </a:solidFill>
                <a:latin typeface="Tempus Sans ITC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38280" y="1371600"/>
            <a:ext cx="6172200" cy="411012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10000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1752480"/>
            <a:ext cx="609624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1600" y="456120"/>
            <a:ext cx="80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ach"/>
              </a:rPr>
              <a:t>If our American way of life fails the chil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ach"/>
              </a:rPr>
              <a:t>it fails u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7000" y="617220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letype"/>
              </a:rPr>
              <a:t>Pearl S. B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5790960" cy="3860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477120" y="286920"/>
            <a:ext cx="213336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Use what talents you possess; the woods would be very sil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if no birds sang there except those that sang b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5486400" cy="4322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37080" y="5867280"/>
            <a:ext cx="248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slonOldFace BT"/>
              </a:rPr>
              <a:t>Henry Van Dy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09480" y="1369440"/>
            <a:ext cx="27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letype"/>
              </a:rPr>
              <a:t>Can’t a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letype"/>
              </a:rPr>
              <a:t>Can’t s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letype"/>
              </a:rPr>
              <a:t>Slightly ba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letype"/>
              </a:rPr>
              <a:t>Can dance a li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4720" y="388620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Report on Fred Astaire’s first screen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523880"/>
            <a:ext cx="8458200" cy="43434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4320" y="303840"/>
            <a:ext cx="728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alisto MT"/>
              </a:rPr>
              <a:t>It is easier to build strong child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alisto MT"/>
              </a:rPr>
              <a:t>than to repair broken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6019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ucer"/>
              </a:rPr>
              <a:t>Frederick Dou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5892840" cy="39193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371600" y="1828800"/>
            <a:ext cx="0" cy="3657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057400"/>
            <a:ext cx="0" cy="3352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362320"/>
            <a:ext cx="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227880"/>
            <a:ext cx="5211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Edwardian Script ITC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ing will ever be attem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possible ob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first over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609588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Edwardian Script ITC"/>
              </a:rPr>
              <a:t>Samuel John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828800" y="2286000"/>
            <a:ext cx="5410080" cy="360360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1" name=""/>
          <p:cNvSpPr/>
          <p:nvPr/>
        </p:nvSpPr>
        <p:spPr>
          <a:xfrm>
            <a:off x="1143000" y="19810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19810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2904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019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968800" cy="425916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1415160" y="502812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mericana BT"/>
              </a:rPr>
              <a:t>The secret to education i</a:t>
            </a:r>
            <a:r>
              <a:rPr b="1" lang="en-US" sz="2400" spc="-1" strike="noStrike">
                <a:solidFill>
                  <a:srgbClr val="000000"/>
                </a:solidFill>
                <a:latin typeface="Americana B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4845240"/>
            <a:ext cx="30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a BT"/>
              </a:rPr>
              <a:t>respecting the pup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2480" y="594252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lfaen"/>
              </a:rPr>
              <a:t>Ralph Waldo Em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1:34:39Z</dcterms:created>
  <dc:creator>Lisa Kupper</dc:creator>
  <dc:description/>
  <dc:language>en-US</dc:language>
  <cp:lastModifiedBy>Lisa Küpper</cp:lastModifiedBy>
  <dcterms:modified xsi:type="dcterms:W3CDTF">2007-05-09T11:34:43Z</dcterms:modified>
  <cp:revision>159</cp:revision>
  <dc:subject/>
  <dc:title>History of IDEA</dc:title>
</cp:coreProperties>
</file>